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1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png" ContentType="image/png"/>
  <Override PartName="/ppt/media/image13.jpeg" ContentType="image/jpe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10688638" cy="75628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1006560" y="685440"/>
            <a:ext cx="484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69377-4C13-4520-9D55-A6A75F742D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006560" y="685800"/>
            <a:ext cx="484488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8A670-C0E2-412A-8E25-2F21E6BCBB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006560" y="685800"/>
            <a:ext cx="484488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719AC-F429-4513-ABB8-6D55DD5146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006560" y="685800"/>
            <a:ext cx="484488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B8CFC-CA9A-4DDB-A5D4-9BA8C2714D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009800" y="685800"/>
            <a:ext cx="4841640" cy="342576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06C50-7053-4CC8-A473-3190F3895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009800" y="685800"/>
            <a:ext cx="4841640" cy="342576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18E74-77BA-4864-80AC-73F8E921D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8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33286-143E-4D36-927F-19CED8ADC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1"/>
          <p:cNvSpPr/>
          <p:nvPr/>
        </p:nvSpPr>
        <p:spPr>
          <a:xfrm>
            <a:off x="928800" y="685800"/>
            <a:ext cx="500544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784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3"/>
          <p:cNvSpPr/>
          <p:nvPr/>
        </p:nvSpPr>
        <p:spPr>
          <a:xfrm>
            <a:off x="3886200" y="868536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7E79F356-912B-4585-ABD1-08EA69D689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8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BA136-4656-4414-B3A1-E11FA1D50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"/>
          <p:cNvSpPr/>
          <p:nvPr/>
        </p:nvSpPr>
        <p:spPr>
          <a:xfrm>
            <a:off x="3884760" y="8685360"/>
            <a:ext cx="2973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70778003-EBA5-4298-B08D-706001197F0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2"/>
          <p:cNvSpPr/>
          <p:nvPr/>
        </p:nvSpPr>
        <p:spPr>
          <a:xfrm>
            <a:off x="927000" y="685800"/>
            <a:ext cx="50054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body"/>
          </p:nvPr>
        </p:nvSpPr>
        <p:spPr>
          <a:xfrm>
            <a:off x="685800" y="4338720"/>
            <a:ext cx="548784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8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3F44E-A3F6-4ADD-B1A7-F166DF8E0E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1"/>
          <p:cNvSpPr/>
          <p:nvPr/>
        </p:nvSpPr>
        <p:spPr>
          <a:xfrm>
            <a:off x="928800" y="685800"/>
            <a:ext cx="500544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784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3"/>
          <p:cNvSpPr/>
          <p:nvPr/>
        </p:nvSpPr>
        <p:spPr>
          <a:xfrm>
            <a:off x="3886200" y="868536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40FFD788-0638-4B24-8CDC-F36814682B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8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CE743-B8E7-4764-81E1-A9C668C95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1"/>
          <p:cNvSpPr/>
          <p:nvPr/>
        </p:nvSpPr>
        <p:spPr>
          <a:xfrm>
            <a:off x="928800" y="685800"/>
            <a:ext cx="500544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784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3"/>
          <p:cNvSpPr/>
          <p:nvPr/>
        </p:nvSpPr>
        <p:spPr>
          <a:xfrm>
            <a:off x="3886200" y="868536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980E7533-46F2-425D-8139-84CBD87BAF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8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CD893-8A84-43F6-B6D1-BD45ED8547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"/>
          <p:cNvSpPr/>
          <p:nvPr/>
        </p:nvSpPr>
        <p:spPr>
          <a:xfrm>
            <a:off x="928800" y="685800"/>
            <a:ext cx="500544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784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3"/>
          <p:cNvSpPr/>
          <p:nvPr/>
        </p:nvSpPr>
        <p:spPr>
          <a:xfrm>
            <a:off x="3886200" y="868536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72255E1A-6EEB-41D2-BF9B-689B25FE10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8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4AAA6-8DAA-4E0C-BDA4-D981C5AA62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"/>
          <p:cNvSpPr/>
          <p:nvPr/>
        </p:nvSpPr>
        <p:spPr>
          <a:xfrm>
            <a:off x="928800" y="685800"/>
            <a:ext cx="500544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784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3"/>
          <p:cNvSpPr/>
          <p:nvPr/>
        </p:nvSpPr>
        <p:spPr>
          <a:xfrm>
            <a:off x="3886200" y="868536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64CAE682-725B-46E2-A664-E9A18C9489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8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A85A3-A460-41F8-A98C-8FB7A418A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"/>
          <p:cNvSpPr/>
          <p:nvPr/>
        </p:nvSpPr>
        <p:spPr>
          <a:xfrm>
            <a:off x="3886200" y="868536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1E8D09F1-CD98-4863-ABD8-DE63A8005D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2"/>
          <p:cNvSpPr/>
          <p:nvPr/>
        </p:nvSpPr>
        <p:spPr>
          <a:xfrm>
            <a:off x="930240" y="685800"/>
            <a:ext cx="50054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784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8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FD13B-2389-4BAE-ACF9-9F8CD45EFE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"/>
          <p:cNvSpPr/>
          <p:nvPr/>
        </p:nvSpPr>
        <p:spPr>
          <a:xfrm>
            <a:off x="928800" y="685800"/>
            <a:ext cx="500544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784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3"/>
          <p:cNvSpPr/>
          <p:nvPr/>
        </p:nvSpPr>
        <p:spPr>
          <a:xfrm>
            <a:off x="3886200" y="868536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BBEB7527-1B78-429E-88C3-C898558395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8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3A612-5D49-474A-A725-ED57394161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928800" y="685800"/>
            <a:ext cx="500544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784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3"/>
          <p:cNvSpPr/>
          <p:nvPr/>
        </p:nvSpPr>
        <p:spPr>
          <a:xfrm>
            <a:off x="3886200" y="868536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2BBF654D-99EA-4671-B97B-53A9EC0B04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8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3F7F1-4F53-445A-886B-3F7A8B470D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1"/>
          <p:cNvSpPr/>
          <p:nvPr/>
        </p:nvSpPr>
        <p:spPr>
          <a:xfrm>
            <a:off x="928800" y="685800"/>
            <a:ext cx="500544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784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3"/>
          <p:cNvSpPr/>
          <p:nvPr/>
        </p:nvSpPr>
        <p:spPr>
          <a:xfrm>
            <a:off x="3886200" y="868536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A953C1E7-AD2B-4D99-875F-6BDBD7168D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8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59F36-31B1-49DC-AF91-F0B7899E8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1"/>
          <p:cNvSpPr/>
          <p:nvPr/>
        </p:nvSpPr>
        <p:spPr>
          <a:xfrm>
            <a:off x="928800" y="685800"/>
            <a:ext cx="500544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784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3"/>
          <p:cNvSpPr/>
          <p:nvPr/>
        </p:nvSpPr>
        <p:spPr>
          <a:xfrm>
            <a:off x="3886200" y="868536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1D12AC0A-FB84-4F25-AFF8-DE3FE5145C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8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71FCA-32FE-44B7-BCEF-40DB09DC7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"/>
          <p:cNvSpPr/>
          <p:nvPr/>
        </p:nvSpPr>
        <p:spPr>
          <a:xfrm>
            <a:off x="928800" y="685800"/>
            <a:ext cx="500544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784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3"/>
          <p:cNvSpPr/>
          <p:nvPr/>
        </p:nvSpPr>
        <p:spPr>
          <a:xfrm>
            <a:off x="3886200" y="868536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94836D7A-FE5E-4F0F-BB18-484AB0BC1F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8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3C978-EB47-403C-A5D4-E0093AD5A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"/>
          <p:cNvSpPr/>
          <p:nvPr/>
        </p:nvSpPr>
        <p:spPr>
          <a:xfrm>
            <a:off x="928800" y="685800"/>
            <a:ext cx="500544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784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3"/>
          <p:cNvSpPr/>
          <p:nvPr/>
        </p:nvSpPr>
        <p:spPr>
          <a:xfrm>
            <a:off x="3886200" y="868536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BD7BAC8A-A724-47FB-BB4D-92BC0A67B5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8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EF373-161A-4ADA-9340-ECA5DE4574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"/>
          <p:cNvSpPr/>
          <p:nvPr/>
        </p:nvSpPr>
        <p:spPr>
          <a:xfrm>
            <a:off x="928800" y="685800"/>
            <a:ext cx="500544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784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"/>
          <p:cNvSpPr/>
          <p:nvPr/>
        </p:nvSpPr>
        <p:spPr>
          <a:xfrm>
            <a:off x="3886200" y="868536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7EAD0516-69F9-4A5B-A3FA-EB9E9FCBFE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006560" y="685800"/>
            <a:ext cx="484488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C525C-201D-46CA-A043-7ED0B0F95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009800" y="685800"/>
            <a:ext cx="4841640" cy="342576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8426F-0685-43CA-955D-F603C62E9A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006560" y="685800"/>
            <a:ext cx="484488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F931A-8A01-43AF-8DE8-0181094FE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8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AED4E-FFE3-4EB0-83C9-AD73687C7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1"/>
          <p:cNvSpPr/>
          <p:nvPr/>
        </p:nvSpPr>
        <p:spPr>
          <a:xfrm>
            <a:off x="928800" y="685800"/>
            <a:ext cx="500544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784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3"/>
          <p:cNvSpPr/>
          <p:nvPr/>
        </p:nvSpPr>
        <p:spPr>
          <a:xfrm>
            <a:off x="3886200" y="868536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65B2AB3C-3A16-4CB5-BD91-F41B23B79A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8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CAD6C-7E88-40E4-8C9D-6EA37D6218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"/>
          <p:cNvSpPr/>
          <p:nvPr/>
        </p:nvSpPr>
        <p:spPr>
          <a:xfrm>
            <a:off x="928800" y="685800"/>
            <a:ext cx="500544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784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3"/>
          <p:cNvSpPr/>
          <p:nvPr/>
        </p:nvSpPr>
        <p:spPr>
          <a:xfrm>
            <a:off x="3886200" y="868536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26766672-7947-4F1C-9B97-D8632B14EC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006560" y="685800"/>
            <a:ext cx="484488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ACD4B-7144-43FC-A012-CE22C72C3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4240" y="301680"/>
            <a:ext cx="961920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4240" y="1769760"/>
            <a:ext cx="961920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4240" y="4060800"/>
            <a:ext cx="961920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4240" y="301680"/>
            <a:ext cx="961920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4240" y="1769760"/>
            <a:ext cx="469404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63360" y="1769760"/>
            <a:ext cx="469404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4240" y="4060800"/>
            <a:ext cx="469404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463360" y="4060800"/>
            <a:ext cx="469404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4240" y="301680"/>
            <a:ext cx="961920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4240" y="1769760"/>
            <a:ext cx="309708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786480" y="1769760"/>
            <a:ext cx="309708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038720" y="1769760"/>
            <a:ext cx="309708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4240" y="4060800"/>
            <a:ext cx="309708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786480" y="4060800"/>
            <a:ext cx="309708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7038720" y="4060800"/>
            <a:ext cx="309708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4240" y="301680"/>
            <a:ext cx="961920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4240" y="1769760"/>
            <a:ext cx="9619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4240" y="301680"/>
            <a:ext cx="961920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4240" y="1769760"/>
            <a:ext cx="9619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4240" y="301680"/>
            <a:ext cx="961920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4240" y="1769760"/>
            <a:ext cx="469404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463360" y="1769760"/>
            <a:ext cx="469404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4240" y="301680"/>
            <a:ext cx="961920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34240" y="301680"/>
            <a:ext cx="9619200" cy="585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999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4240" y="301680"/>
            <a:ext cx="961920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4240" y="1769760"/>
            <a:ext cx="469404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63360" y="1769760"/>
            <a:ext cx="469404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4240" y="4060800"/>
            <a:ext cx="469404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4240" y="301680"/>
            <a:ext cx="961920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34240" y="1769760"/>
            <a:ext cx="9619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4240" y="301680"/>
            <a:ext cx="961920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4240" y="1769760"/>
            <a:ext cx="469404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463360" y="1769760"/>
            <a:ext cx="469404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463360" y="4060800"/>
            <a:ext cx="469404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4240" y="301680"/>
            <a:ext cx="961920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4240" y="1769760"/>
            <a:ext cx="469404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63360" y="1769760"/>
            <a:ext cx="469404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4240" y="4060800"/>
            <a:ext cx="961920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4240" y="301680"/>
            <a:ext cx="961920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4240" y="1769760"/>
            <a:ext cx="961920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4240" y="4060800"/>
            <a:ext cx="961920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4240" y="301680"/>
            <a:ext cx="961920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4240" y="1769760"/>
            <a:ext cx="469404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463360" y="1769760"/>
            <a:ext cx="469404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4240" y="4060800"/>
            <a:ext cx="469404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463360" y="4060800"/>
            <a:ext cx="469404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4240" y="301680"/>
            <a:ext cx="961920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4240" y="1769760"/>
            <a:ext cx="309708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86480" y="1769760"/>
            <a:ext cx="309708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038720" y="1769760"/>
            <a:ext cx="309708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4240" y="4060800"/>
            <a:ext cx="309708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786480" y="4060800"/>
            <a:ext cx="309708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7038720" y="4060800"/>
            <a:ext cx="309708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4240" y="301680"/>
            <a:ext cx="961920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534240" y="1769760"/>
            <a:ext cx="9619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4240" y="301680"/>
            <a:ext cx="961920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4240" y="1769760"/>
            <a:ext cx="9619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4240" y="301680"/>
            <a:ext cx="961920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4240" y="1769760"/>
            <a:ext cx="469404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463360" y="1769760"/>
            <a:ext cx="469404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4240" y="301680"/>
            <a:ext cx="961920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240" y="301680"/>
            <a:ext cx="961920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34240" y="1769760"/>
            <a:ext cx="9619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534240" y="301680"/>
            <a:ext cx="9619200" cy="585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999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4240" y="301680"/>
            <a:ext cx="961920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4240" y="1769760"/>
            <a:ext cx="469404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463360" y="1769760"/>
            <a:ext cx="469404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34240" y="4060800"/>
            <a:ext cx="469404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4240" y="301680"/>
            <a:ext cx="961920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4240" y="1769760"/>
            <a:ext cx="469404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463360" y="1769760"/>
            <a:ext cx="469404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463360" y="4060800"/>
            <a:ext cx="469404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4240" y="301680"/>
            <a:ext cx="961920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4240" y="1769760"/>
            <a:ext cx="469404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463360" y="1769760"/>
            <a:ext cx="469404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34240" y="4060800"/>
            <a:ext cx="961920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4240" y="301680"/>
            <a:ext cx="961920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4240" y="1769760"/>
            <a:ext cx="961920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34240" y="4060800"/>
            <a:ext cx="961920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4240" y="301680"/>
            <a:ext cx="961920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4240" y="1769760"/>
            <a:ext cx="469404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463360" y="1769760"/>
            <a:ext cx="469404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34240" y="4060800"/>
            <a:ext cx="469404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463360" y="4060800"/>
            <a:ext cx="469404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4240" y="301680"/>
            <a:ext cx="961920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4240" y="1769760"/>
            <a:ext cx="309708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786480" y="1769760"/>
            <a:ext cx="309708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038720" y="1769760"/>
            <a:ext cx="309708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34240" y="4060800"/>
            <a:ext cx="309708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786480" y="4060800"/>
            <a:ext cx="309708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7038720" y="4060800"/>
            <a:ext cx="309708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240" y="301680"/>
            <a:ext cx="961920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4240" y="1769760"/>
            <a:ext cx="469404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463360" y="1769760"/>
            <a:ext cx="469404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4240" y="301680"/>
            <a:ext cx="961920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34240" y="301680"/>
            <a:ext cx="9619200" cy="585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999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240" y="301680"/>
            <a:ext cx="961920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4240" y="1769760"/>
            <a:ext cx="469404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463360" y="1769760"/>
            <a:ext cx="469404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34240" y="4060800"/>
            <a:ext cx="469404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4240" y="301680"/>
            <a:ext cx="961920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4240" y="1769760"/>
            <a:ext cx="469404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463360" y="1769760"/>
            <a:ext cx="469404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463360" y="4060800"/>
            <a:ext cx="469404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4240" y="301680"/>
            <a:ext cx="961920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4240" y="1769760"/>
            <a:ext cx="469404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463360" y="1769760"/>
            <a:ext cx="469404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4240" y="4060800"/>
            <a:ext cx="961920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5056 GN PPsjabloon pag7"/>
          <p:cNvPicPr/>
          <p:nvPr/>
        </p:nvPicPr>
        <p:blipFill>
          <a:blip r:embed="rId2"/>
          <a:stretch/>
        </p:blipFill>
        <p:spPr>
          <a:xfrm>
            <a:off x="1440" y="1440"/>
            <a:ext cx="10687320" cy="7560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231840" y="6886440"/>
            <a:ext cx="1944720" cy="5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dat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231840" y="5870160"/>
            <a:ext cx="19447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Verdana"/>
              </a:rPr>
              <a:t>Titel presentat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5056 GN PPsjabloon"/>
          <p:cNvPicPr/>
          <p:nvPr/>
        </p:nvPicPr>
        <p:blipFill>
          <a:blip r:embed="rId2"/>
          <a:stretch/>
        </p:blipFill>
        <p:spPr>
          <a:xfrm>
            <a:off x="0" y="0"/>
            <a:ext cx="10699920" cy="756936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dt" idx="3"/>
          </p:nvPr>
        </p:nvSpPr>
        <p:spPr>
          <a:xfrm>
            <a:off x="3040200" y="4573080"/>
            <a:ext cx="7488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Verdana"/>
              </a:rPr>
              <a:t>Dat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7" descr="5056 GN PPsjabloon pag7"/>
          <p:cNvPicPr/>
          <p:nvPr/>
        </p:nvPicPr>
        <p:blipFill>
          <a:blip r:embed="rId2"/>
          <a:stretch/>
        </p:blipFill>
        <p:spPr>
          <a:xfrm>
            <a:off x="1440" y="1440"/>
            <a:ext cx="10687320" cy="7560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4240" y="301680"/>
            <a:ext cx="961920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34240" y="1769760"/>
            <a:ext cx="9619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>
              <a:lnSpc>
                <a:spcPts val="2999"/>
              </a:lnSpc>
              <a:buClr>
                <a:srgbClr val="ffffff"/>
              </a:buClr>
              <a:buFont typeface="Wingdings" charset="2"/>
              <a:buChar char="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847800" indent="-327240">
              <a:lnSpc>
                <a:spcPts val="2999"/>
              </a:lnSpc>
              <a:buClr>
                <a:srgbClr val="ffffff"/>
              </a:buClr>
              <a:buFont typeface="Wingdings" charset="2"/>
              <a:buChar char="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303200" indent="-260280">
              <a:lnSpc>
                <a:spcPts val="2999"/>
              </a:lnSpc>
              <a:buClr>
                <a:srgbClr val="ffffff"/>
              </a:buClr>
              <a:buFont typeface="Wingdings" charset="2"/>
              <a:buChar char="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1825560" indent="-261720">
              <a:lnSpc>
                <a:spcPts val="2999"/>
              </a:lnSpc>
              <a:buClr>
                <a:srgbClr val="ffffff"/>
              </a:buClr>
              <a:buFont typeface="Wingdings" charset="2"/>
              <a:buChar char="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346480" indent="-260640">
              <a:lnSpc>
                <a:spcPts val="2999"/>
              </a:lnSpc>
              <a:buClr>
                <a:srgbClr val="ffffff"/>
              </a:buClr>
              <a:buFont typeface="Wingdings" charset="2"/>
              <a:buChar char=""/>
              <a:tabLst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346480" indent="-2606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346480" indent="-2606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jpeg"/><Relationship Id="rId3" Type="http://schemas.openxmlformats.org/officeDocument/2006/relationships/hyperlink" Target="http://images.google.com/imgres?imgurl=http://www.gelderland-zuid.brandweer.nl/upload/625527_340_1144673136562-foto-meldkamer.jpg&amp;imgrefurl=http://www.gelderland-zuid.brandweer.nl/cms/show/id%3D625515&amp;h=237&amp;w=350&amp;sz=14&amp;hl=nl&amp;start=3&amp;tbnid=-DWx2vmjHkSvCM:&amp;tbnh=81&amp;tbnw=120&amp;prev=/images%3Fq%3Dmeldkamer%26gbv%3D2%26hl%3Dnl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5"/>
          <p:cNvSpPr/>
          <p:nvPr/>
        </p:nvSpPr>
        <p:spPr>
          <a:xfrm>
            <a:off x="3040200" y="5635800"/>
            <a:ext cx="748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Verdana"/>
              </a:rPr>
              <a:t>17 februari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Verdana"/>
              </a:rPr>
              <a:t>StUF Regiegroep - Utre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986200" y="1137960"/>
            <a:ext cx="7488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Harmonisatie gegevens en berichtstandaarden StUF-RSGB en NEN3610</a:t>
            </a:r>
            <a:br>
              <a:rPr sz="3600"/>
            </a:b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7988400" y="6996240"/>
            <a:ext cx="2448000" cy="377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"/>
          <p:cNvPicPr/>
          <p:nvPr/>
        </p:nvPicPr>
        <p:blipFill>
          <a:blip r:embed="rId2"/>
          <a:stretch/>
        </p:blipFill>
        <p:spPr>
          <a:xfrm>
            <a:off x="7988400" y="5853240"/>
            <a:ext cx="1857240" cy="8906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2"/>
          <p:cNvSpPr/>
          <p:nvPr/>
        </p:nvSpPr>
        <p:spPr>
          <a:xfrm>
            <a:off x="3057480" y="5959440"/>
            <a:ext cx="435924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3280" bIns="53280" anchor="t">
            <a:no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Peter Klaver – 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(Marcel Reuvers – Geonovu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3"/>
          <a:stretch/>
        </p:blipFill>
        <p:spPr>
          <a:xfrm>
            <a:off x="7988400" y="4781520"/>
            <a:ext cx="1792080" cy="8571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"/>
          <p:cNvPicPr/>
          <p:nvPr/>
        </p:nvPicPr>
        <p:blipFill>
          <a:blip r:embed="rId4"/>
          <a:stretch/>
        </p:blipFill>
        <p:spPr>
          <a:xfrm>
            <a:off x="7988400" y="4067280"/>
            <a:ext cx="192888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5" descr=""/>
          <p:cNvPicPr/>
          <p:nvPr/>
        </p:nvPicPr>
        <p:blipFill>
          <a:blip r:embed="rId1"/>
          <a:stretch/>
        </p:blipFill>
        <p:spPr>
          <a:xfrm>
            <a:off x="8831160" y="0"/>
            <a:ext cx="1857600" cy="8906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4" descr="brand_010_kaart_up03"/>
          <p:cNvPicPr/>
          <p:nvPr/>
        </p:nvPicPr>
        <p:blipFill>
          <a:blip r:embed="rId2"/>
          <a:stretch/>
        </p:blipFill>
        <p:spPr>
          <a:xfrm>
            <a:off x="2895480" y="2197080"/>
            <a:ext cx="5329440" cy="536580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5"/>
          <p:cNvSpPr/>
          <p:nvPr/>
        </p:nvSpPr>
        <p:spPr>
          <a:xfrm>
            <a:off x="2966760" y="828720"/>
            <a:ext cx="248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112-mel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ie , Wat , W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6" descr="625527_340_1144673136562-foto-meldkamer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59600" y="1138320"/>
            <a:ext cx="3166920" cy="21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607840" y="468360"/>
            <a:ext cx="7777080" cy="8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Verdana"/>
              </a:rPr>
              <a:t>Op straat, b.v. Brandweer</a:t>
            </a:r>
            <a:br>
              <a:rPr sz="2000"/>
            </a:br>
            <a:r>
              <a:rPr b="1" lang="nl-NL" sz="2000" spc="-1" strike="noStrike">
                <a:solidFill>
                  <a:srgbClr val="ffffff"/>
                </a:solidFill>
                <a:latin typeface="Verdana"/>
              </a:rPr>
              <a:t>BAG / GBA/ NHR / BRT / BGT / DINO (TNO)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2" name="Picture 4" descr=""/>
          <p:cNvPicPr/>
          <p:nvPr/>
        </p:nvPicPr>
        <p:blipFill>
          <a:blip r:embed="rId1"/>
          <a:stretch/>
        </p:blipFill>
        <p:spPr>
          <a:xfrm>
            <a:off x="2608200" y="1782720"/>
            <a:ext cx="7201080" cy="57801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5" descr=""/>
          <p:cNvPicPr/>
          <p:nvPr/>
        </p:nvPicPr>
        <p:blipFill>
          <a:blip r:embed="rId2"/>
          <a:stretch/>
        </p:blipFill>
        <p:spPr>
          <a:xfrm>
            <a:off x="8831160" y="0"/>
            <a:ext cx="185760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679480" y="1117080"/>
            <a:ext cx="7777080" cy="806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Voorbeeld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2679480" y="2052720"/>
            <a:ext cx="7777080" cy="4703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lnSpc>
                <a:spcPts val="2999"/>
              </a:lnSpc>
              <a:buClr>
                <a:srgbClr val="ffffff"/>
              </a:buClr>
              <a:buFont typeface="Wingdings" charset="2"/>
              <a:buChar char="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1401560" cy="779472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1"/>
          <p:cNvSpPr/>
          <p:nvPr/>
        </p:nvSpPr>
        <p:spPr>
          <a:xfrm>
            <a:off x="5345280" y="3465360"/>
            <a:ext cx="576072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3280" bIns="53280" anchor="ctr">
            <a:noAutofit/>
          </a:bodyPr>
          <a:p>
            <a:pPr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Een voorbe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679480" y="1117080"/>
            <a:ext cx="7777080" cy="8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nl-NL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2679480" y="2052720"/>
            <a:ext cx="7777080" cy="4703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lnSpc>
                <a:spcPts val="2999"/>
              </a:lnSpc>
              <a:buClr>
                <a:srgbClr val="ffffff"/>
              </a:buClr>
              <a:buFont typeface="Wingdings" charset="2"/>
              <a:buChar char="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1401560" cy="779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1"/>
          <p:cNvSpPr/>
          <p:nvPr/>
        </p:nvSpPr>
        <p:spPr>
          <a:xfrm>
            <a:off x="2486160" y="1023840"/>
            <a:ext cx="8202600" cy="11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3280" bIns="53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Welke standaarden zijn onderwerp van harmonis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2503440" y="2924280"/>
          <a:ext cx="8185320" cy="3902040"/>
        </p:xfrm>
        <a:graphic>
          <a:graphicData uri="http://schemas.openxmlformats.org/drawingml/2006/table">
            <a:tbl>
              <a:tblPr/>
              <a:tblGrid>
                <a:gridCol w="2727360"/>
                <a:gridCol w="2730600"/>
                <a:gridCol w="2727360"/>
              </a:tblGrid>
              <a:tr h="635040">
                <a:tc>
                  <a:txBody>
                    <a:bodyPr lIns="106920" rIns="106920" tIns="17640" bIns="504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"/>
                          <a:ea typeface="Lucida Sans Unicode"/>
                        </a:rPr>
                        <a:t>Onderwer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6920" marR="106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878de"/>
                    </a:solidFill>
                  </a:tcPr>
                </a:tc>
                <a:tc>
                  <a:txBody>
                    <a:bodyPr lIns="106920" rIns="106920" tIns="17640" bIns="504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"/>
                          <a:ea typeface="Lucida Sans Unicode"/>
                        </a:rPr>
                        <a:t>NEN361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"/>
                          <a:ea typeface="Lucida Sans Unicode"/>
                        </a:rPr>
                        <a:t>Famil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6920" marR="106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878de"/>
                    </a:solidFill>
                  </a:tcPr>
                </a:tc>
                <a:tc>
                  <a:txBody>
                    <a:bodyPr lIns="106920" rIns="106920" tIns="17640" bIns="504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"/>
                          <a:ea typeface="Lucida Sans Unicode"/>
                        </a:rPr>
                        <a:t>StU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"/>
                          <a:ea typeface="Lucida Sans Unicode"/>
                        </a:rPr>
                        <a:t>Famil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6920" marR="106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878de"/>
                    </a:solidFill>
                  </a:tcPr>
                </a:tc>
              </a:tr>
              <a:tr h="1485000">
                <a:tc>
                  <a:txBody>
                    <a:bodyPr lIns="106920" rIns="106920" tIns="17640" bIns="504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Gegeve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Standaard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6920" marR="106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106920" rIns="106920" tIns="17640" bIns="504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NEN36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IMKAD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TOP10N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IMGE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IMB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6920" marR="106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106920" rIns="106920" tIns="17640" bIns="504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RSG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nl-NL" sz="15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(BAG, BRP, NHR,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nl-NL" sz="15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KAD, WOZ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6920" marR="106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</a:tr>
              <a:tr h="1789920">
                <a:tc>
                  <a:txBody>
                    <a:bodyPr lIns="106920" rIns="106920" tIns="17640" bIns="504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Berichten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Functionalite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6920" marR="106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106920" rIns="106920" tIns="17640" bIns="504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GM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W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WF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6920" marR="106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106920" rIns="106920" tIns="17640" bIns="504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StUF servi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StUF B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6920" marR="106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</a:tr>
            </a:tbl>
          </a:graphicData>
        </a:graphic>
      </p:graphicFrame>
      <p:pic>
        <p:nvPicPr>
          <p:cNvPr id="293" name="Picture 5" descr=""/>
          <p:cNvPicPr/>
          <p:nvPr/>
        </p:nvPicPr>
        <p:blipFill>
          <a:blip r:embed="rId1"/>
          <a:stretch/>
        </p:blipFill>
        <p:spPr>
          <a:xfrm>
            <a:off x="8831160" y="0"/>
            <a:ext cx="1857600" cy="89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1"/>
          <p:cNvSpPr/>
          <p:nvPr/>
        </p:nvSpPr>
        <p:spPr>
          <a:xfrm>
            <a:off x="2486160" y="781200"/>
            <a:ext cx="7073640" cy="9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3280" bIns="53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Verdana"/>
              </a:rPr>
              <a:t>Niveaus digitale koppeling/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Verdana"/>
              </a:rPr>
              <a:t>Keten en de positie van NEN3610/RSGB/StU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2" descr=""/>
          <p:cNvPicPr/>
          <p:nvPr/>
        </p:nvPicPr>
        <p:blipFill>
          <a:blip r:embed="rId1"/>
          <a:stretch/>
        </p:blipFill>
        <p:spPr>
          <a:xfrm>
            <a:off x="628560" y="1924200"/>
            <a:ext cx="9353520" cy="5389560"/>
          </a:xfrm>
          <a:prstGeom prst="rect">
            <a:avLst/>
          </a:prstGeom>
          <a:ln w="0">
            <a:noFill/>
          </a:ln>
        </p:spPr>
      </p:pic>
      <p:sp>
        <p:nvSpPr>
          <p:cNvPr id="296" name="Oval 3"/>
          <p:cNvSpPr/>
          <p:nvPr/>
        </p:nvSpPr>
        <p:spPr>
          <a:xfrm>
            <a:off x="7550280" y="5338800"/>
            <a:ext cx="2271600" cy="1352520"/>
          </a:xfrm>
          <a:prstGeom prst="ellipse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3280" bIns="53280" anchor="ctr">
            <a:noAutofit/>
          </a:bodyPr>
          <a:p>
            <a:pPr algn="ctr"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Logistie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standaard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4"/>
          <p:cNvSpPr/>
          <p:nvPr/>
        </p:nvSpPr>
        <p:spPr>
          <a:xfrm>
            <a:off x="6202440" y="2004840"/>
            <a:ext cx="2273400" cy="79236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3280" bIns="53280" anchor="ctr">
            <a:noAutofit/>
          </a:bodyPr>
          <a:p>
            <a:pPr algn="ctr"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Samenwerkings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afsprak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5"/>
          <p:cNvSpPr/>
          <p:nvPr/>
        </p:nvSpPr>
        <p:spPr>
          <a:xfrm>
            <a:off x="7381800" y="6451560"/>
            <a:ext cx="2270160" cy="1111320"/>
          </a:xfrm>
          <a:prstGeom prst="ellipse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3280" bIns="53280" anchor="ctr">
            <a:noAutofit/>
          </a:bodyPr>
          <a:p>
            <a:pPr algn="ctr"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Netwe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standaa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6"/>
          <p:cNvSpPr/>
          <p:nvPr/>
        </p:nvSpPr>
        <p:spPr>
          <a:xfrm>
            <a:off x="5613480" y="2639880"/>
            <a:ext cx="2273400" cy="95256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3280" bIns="53280" anchor="ctr">
            <a:noAutofit/>
          </a:bodyPr>
          <a:p>
            <a:pPr algn="ctr"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Kwaliteits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afspra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7"/>
          <p:cNvSpPr/>
          <p:nvPr/>
        </p:nvSpPr>
        <p:spPr>
          <a:xfrm>
            <a:off x="7211880" y="2560680"/>
            <a:ext cx="2273400" cy="95256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3280" bIns="53280" anchor="ctr">
            <a:noAutofit/>
          </a:bodyPr>
          <a:p>
            <a:pPr algn="ctr"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Proces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afspra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8"/>
          <p:cNvSpPr/>
          <p:nvPr/>
        </p:nvSpPr>
        <p:spPr>
          <a:xfrm>
            <a:off x="6624720" y="3274920"/>
            <a:ext cx="2273040" cy="1271520"/>
          </a:xfrm>
          <a:prstGeom prst="ellipse">
            <a:avLst/>
          </a:prstGeom>
          <a:solidFill>
            <a:srgbClr val="cc66ff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33840" bIns="33840" anchor="ctr">
            <a:noAutofit/>
          </a:bodyPr>
          <a:p>
            <a:pPr algn="ctr"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Gegev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standaard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9"/>
          <p:cNvSpPr/>
          <p:nvPr/>
        </p:nvSpPr>
        <p:spPr>
          <a:xfrm>
            <a:off x="7211880" y="4070520"/>
            <a:ext cx="2105280" cy="1506240"/>
          </a:xfrm>
          <a:prstGeom prst="ellipse">
            <a:avLst/>
          </a:prstGeom>
          <a:solidFill>
            <a:srgbClr val="cc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3280" bIns="53280" anchor="ctr">
            <a:noAutofit/>
          </a:bodyPr>
          <a:p>
            <a:pPr algn="ctr"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Beri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standaard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5" descr=""/>
          <p:cNvPicPr/>
          <p:nvPr/>
        </p:nvPicPr>
        <p:blipFill>
          <a:blip r:embed="rId2"/>
          <a:stretch/>
        </p:blipFill>
        <p:spPr>
          <a:xfrm>
            <a:off x="8831160" y="0"/>
            <a:ext cx="1857600" cy="89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1"/>
          <p:cNvSpPr/>
          <p:nvPr/>
        </p:nvSpPr>
        <p:spPr>
          <a:xfrm>
            <a:off x="2486160" y="966960"/>
            <a:ext cx="7738920" cy="11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3280" bIns="53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Bevind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2"/>
          <p:cNvSpPr/>
          <p:nvPr/>
        </p:nvSpPr>
        <p:spPr>
          <a:xfrm>
            <a:off x="2486160" y="2567160"/>
            <a:ext cx="8202600" cy="148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3280" bIns="53280" anchor="t">
            <a:noAutofit/>
          </a:bodyPr>
          <a:p>
            <a:pPr marL="388800" indent="-3888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388800"/>
                <a:tab algn="l" pos="507960"/>
                <a:tab algn="l" pos="1020600"/>
                <a:tab algn="l" pos="1533600"/>
                <a:tab algn="l" pos="2044800"/>
                <a:tab algn="l" pos="2557440"/>
                <a:tab algn="l" pos="3070080"/>
                <a:tab algn="l" pos="3583080"/>
                <a:tab algn="l" pos="4094280"/>
                <a:tab algn="l" pos="4606920"/>
                <a:tab algn="l" pos="5119560"/>
                <a:tab algn="l" pos="5632560"/>
                <a:tab algn="l" pos="6143760"/>
                <a:tab algn="l" pos="6656400"/>
                <a:tab algn="l" pos="7169040"/>
                <a:tab algn="l" pos="7682040"/>
                <a:tab algn="l" pos="8193240"/>
                <a:tab algn="l" pos="8705880"/>
                <a:tab algn="l" pos="9218520"/>
                <a:tab algn="l" pos="9731520"/>
                <a:tab algn="l" pos="1024272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De NEN3610 en RSGB/StUF standaarden verschillen qua oorsprong, zienswijze, modelleringswijze, abstractieniveau, metagegevens, interactiepatronen, op inhoud, en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388800"/>
                <a:tab algn="l" pos="507960"/>
                <a:tab algn="l" pos="1020600"/>
                <a:tab algn="l" pos="1533600"/>
                <a:tab algn="l" pos="2044800"/>
                <a:tab algn="l" pos="2557440"/>
                <a:tab algn="l" pos="3070080"/>
                <a:tab algn="l" pos="3583080"/>
                <a:tab algn="l" pos="4094280"/>
                <a:tab algn="l" pos="4606920"/>
                <a:tab algn="l" pos="5119560"/>
                <a:tab algn="l" pos="5632560"/>
                <a:tab algn="l" pos="6143760"/>
                <a:tab algn="l" pos="6656400"/>
                <a:tab algn="l" pos="7169040"/>
                <a:tab algn="l" pos="7682040"/>
                <a:tab algn="l" pos="8193240"/>
                <a:tab algn="l" pos="8705880"/>
                <a:tab algn="l" pos="9218520"/>
                <a:tab algn="l" pos="9731520"/>
                <a:tab algn="l" pos="1024272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Het duurde even voor de projectleden elkaar begre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388800"/>
                <a:tab algn="l" pos="507960"/>
                <a:tab algn="l" pos="1020600"/>
                <a:tab algn="l" pos="1533600"/>
                <a:tab algn="l" pos="2044800"/>
                <a:tab algn="l" pos="2557440"/>
                <a:tab algn="l" pos="3070080"/>
                <a:tab algn="l" pos="3583080"/>
                <a:tab algn="l" pos="4094280"/>
                <a:tab algn="l" pos="4606920"/>
                <a:tab algn="l" pos="5119560"/>
                <a:tab algn="l" pos="5632560"/>
                <a:tab algn="l" pos="6143760"/>
                <a:tab algn="l" pos="6656400"/>
                <a:tab algn="l" pos="7169040"/>
                <a:tab algn="l" pos="7682040"/>
                <a:tab algn="l" pos="8193240"/>
                <a:tab algn="l" pos="8705880"/>
                <a:tab algn="l" pos="9218520"/>
                <a:tab algn="l" pos="9731520"/>
                <a:tab algn="l" pos="1024272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Bevestiging van het overlappende werkingsgeb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388800"/>
                <a:tab algn="l" pos="507960"/>
                <a:tab algn="l" pos="1020600"/>
                <a:tab algn="l" pos="1533600"/>
                <a:tab algn="l" pos="2044800"/>
                <a:tab algn="l" pos="2557440"/>
                <a:tab algn="l" pos="3070080"/>
                <a:tab algn="l" pos="3583080"/>
                <a:tab algn="l" pos="4094280"/>
                <a:tab algn="l" pos="4606920"/>
                <a:tab algn="l" pos="5119560"/>
                <a:tab algn="l" pos="5632560"/>
                <a:tab algn="l" pos="6143760"/>
                <a:tab algn="l" pos="6656400"/>
                <a:tab algn="l" pos="7169040"/>
                <a:tab algn="l" pos="7682040"/>
                <a:tab algn="l" pos="8193240"/>
                <a:tab algn="l" pos="8705880"/>
                <a:tab algn="l" pos="9218520"/>
                <a:tab algn="l" pos="9731520"/>
                <a:tab algn="l" pos="1024272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Bevestiging van de complementair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388800"/>
                <a:tab algn="l" pos="507960"/>
                <a:tab algn="l" pos="1020600"/>
                <a:tab algn="l" pos="1533600"/>
                <a:tab algn="l" pos="2044800"/>
                <a:tab algn="l" pos="2557440"/>
                <a:tab algn="l" pos="3070080"/>
                <a:tab algn="l" pos="3583080"/>
                <a:tab algn="l" pos="4094280"/>
                <a:tab algn="l" pos="4606920"/>
                <a:tab algn="l" pos="5119560"/>
                <a:tab algn="l" pos="5632560"/>
                <a:tab algn="l" pos="6143760"/>
                <a:tab algn="l" pos="6656400"/>
                <a:tab algn="l" pos="7169040"/>
                <a:tab algn="l" pos="7682040"/>
                <a:tab algn="l" pos="8193240"/>
                <a:tab algn="l" pos="8705880"/>
                <a:tab algn="l" pos="9218520"/>
                <a:tab algn="l" pos="9731520"/>
                <a:tab algn="l" pos="1024272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Harmonisatie is noodzakelijk en goed oplosba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5" descr=""/>
          <p:cNvPicPr/>
          <p:nvPr/>
        </p:nvPicPr>
        <p:blipFill>
          <a:blip r:embed="rId1"/>
          <a:stretch/>
        </p:blipFill>
        <p:spPr>
          <a:xfrm>
            <a:off x="8831160" y="0"/>
            <a:ext cx="1857600" cy="89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1"/>
          <p:cNvSpPr/>
          <p:nvPr/>
        </p:nvSpPr>
        <p:spPr>
          <a:xfrm>
            <a:off x="2486160" y="966960"/>
            <a:ext cx="843120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3280" bIns="53280" anchor="ctr">
            <a:noAutofit/>
          </a:bodyPr>
          <a:p>
            <a:pPr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Harmonisatievisie op lange termij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2"/>
          <p:cNvSpPr/>
          <p:nvPr/>
        </p:nvSpPr>
        <p:spPr>
          <a:xfrm>
            <a:off x="2486160" y="2424240"/>
            <a:ext cx="7738920" cy="151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3280" bIns="53280" anchor="t">
            <a:noAutofit/>
          </a:bodyPr>
          <a:p>
            <a:pPr marL="388800" indent="-3888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388800"/>
                <a:tab algn="l" pos="507960"/>
                <a:tab algn="l" pos="1020600"/>
                <a:tab algn="l" pos="1533600"/>
                <a:tab algn="l" pos="2044800"/>
                <a:tab algn="l" pos="2557440"/>
                <a:tab algn="l" pos="3070080"/>
                <a:tab algn="l" pos="3583080"/>
                <a:tab algn="l" pos="4094280"/>
                <a:tab algn="l" pos="4606920"/>
                <a:tab algn="l" pos="5119560"/>
                <a:tab algn="l" pos="5632560"/>
                <a:tab algn="l" pos="6143760"/>
                <a:tab algn="l" pos="6656400"/>
                <a:tab algn="l" pos="7169040"/>
                <a:tab algn="l" pos="7682040"/>
                <a:tab algn="l" pos="8193240"/>
                <a:tab algn="l" pos="8705880"/>
                <a:tab algn="l" pos="9218520"/>
                <a:tab algn="l" pos="9731520"/>
                <a:tab algn="l" pos="1024272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Ca 40 harmonisatievoorstellen om verschillen weg te werken op informatie- en berichtenmodellen en functionalit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388800"/>
                <a:tab algn="l" pos="507960"/>
                <a:tab algn="l" pos="1020600"/>
                <a:tab algn="l" pos="1533600"/>
                <a:tab algn="l" pos="2044800"/>
                <a:tab algn="l" pos="2557440"/>
                <a:tab algn="l" pos="3070080"/>
                <a:tab algn="l" pos="3583080"/>
                <a:tab algn="l" pos="4094280"/>
                <a:tab algn="l" pos="4606920"/>
                <a:tab algn="l" pos="5119560"/>
                <a:tab algn="l" pos="5632560"/>
                <a:tab algn="l" pos="6143760"/>
                <a:tab algn="l" pos="6656400"/>
                <a:tab algn="l" pos="7169040"/>
                <a:tab algn="l" pos="7682040"/>
                <a:tab algn="l" pos="8193240"/>
                <a:tab algn="l" pos="8705880"/>
                <a:tab algn="l" pos="9218520"/>
                <a:tab algn="l" pos="9731520"/>
                <a:tab algn="l" pos="1024272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Gemeenschappelijke overkoepelend informatiemodel voor meer samenhang in het stels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388800"/>
                <a:tab algn="l" pos="507960"/>
                <a:tab algn="l" pos="1020600"/>
                <a:tab algn="l" pos="1533600"/>
                <a:tab algn="l" pos="2044800"/>
                <a:tab algn="l" pos="2557440"/>
                <a:tab algn="l" pos="3070080"/>
                <a:tab algn="l" pos="3583080"/>
                <a:tab algn="l" pos="4094280"/>
                <a:tab algn="l" pos="4606920"/>
                <a:tab algn="l" pos="5119560"/>
                <a:tab algn="l" pos="5632560"/>
                <a:tab algn="l" pos="6143760"/>
                <a:tab algn="l" pos="6656400"/>
                <a:tab algn="l" pos="7169040"/>
                <a:tab algn="l" pos="7682040"/>
                <a:tab algn="l" pos="8193240"/>
                <a:tab algn="l" pos="8705880"/>
                <a:tab algn="l" pos="9218520"/>
                <a:tab algn="l" pos="9731520"/>
                <a:tab algn="l" pos="1024272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Bibliotheek met gemeenschappelijke en herbruikbare XSD (deel)berichtstructuren voor stelsel die gebruikt gaan worden voor berichten (servi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388800"/>
                <a:tab algn="l" pos="507960"/>
                <a:tab algn="l" pos="1020600"/>
                <a:tab algn="l" pos="1533600"/>
                <a:tab algn="l" pos="2044800"/>
                <a:tab algn="l" pos="2557440"/>
                <a:tab algn="l" pos="3070080"/>
                <a:tab algn="l" pos="3583080"/>
                <a:tab algn="l" pos="4094280"/>
                <a:tab algn="l" pos="4606920"/>
                <a:tab algn="l" pos="5119560"/>
                <a:tab algn="l" pos="5632560"/>
                <a:tab algn="l" pos="6143760"/>
                <a:tab algn="l" pos="6656400"/>
                <a:tab algn="l" pos="7169040"/>
                <a:tab algn="l" pos="7682040"/>
                <a:tab algn="l" pos="8193240"/>
                <a:tab algn="l" pos="8705880"/>
                <a:tab algn="l" pos="9218520"/>
                <a:tab algn="l" pos="9731520"/>
                <a:tab algn="l" pos="1024272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Samenwerking Geonovum, KING en mogelijk andere beheerders van gegevens/berichtstandaa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5" descr=""/>
          <p:cNvPicPr/>
          <p:nvPr/>
        </p:nvPicPr>
        <p:blipFill>
          <a:blip r:embed="rId1"/>
          <a:stretch/>
        </p:blipFill>
        <p:spPr>
          <a:xfrm>
            <a:off x="8831160" y="0"/>
            <a:ext cx="1857600" cy="89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reeform 1"/>
          <p:cNvSpPr/>
          <p:nvPr/>
        </p:nvSpPr>
        <p:spPr>
          <a:xfrm rot="5400000">
            <a:off x="4509000" y="1180080"/>
            <a:ext cx="3151080" cy="8042040"/>
          </a:xfrm>
          <a:custGeom>
            <a:avLst/>
            <a:gdLst>
              <a:gd name="textAreaLeft" fmla="*/ 525240 w 3151080"/>
              <a:gd name="textAreaRight" fmla="*/ 2626200 w 3151080"/>
              <a:gd name="textAreaTop" fmla="*/ 1340280 h 8042040"/>
              <a:gd name="textAreaBottom" fmla="*/ 8042400 h 8042040"/>
            </a:gdLst>
            <a:ahLst/>
            <a:rect l="textAreaLeft" t="textAreaTop" r="textAreaRight" b="textAreaBottom"/>
            <a:pathLst>
              <a:path w="2857500" h="7286625">
                <a:moveTo>
                  <a:pt x="0" y="7286625"/>
                </a:moveTo>
                <a:lnTo>
                  <a:pt x="714375" y="0"/>
                </a:lnTo>
                <a:lnTo>
                  <a:pt x="2143125" y="0"/>
                </a:lnTo>
                <a:lnTo>
                  <a:pt x="2857500" y="7286625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reeform 2"/>
          <p:cNvSpPr/>
          <p:nvPr/>
        </p:nvSpPr>
        <p:spPr>
          <a:xfrm>
            <a:off x="3324240" y="3384720"/>
            <a:ext cx="17280" cy="3414600"/>
          </a:xfrm>
          <a:custGeom>
            <a:avLst/>
            <a:gdLst>
              <a:gd name="textAreaLeft" fmla="*/ 0 w 17280"/>
              <a:gd name="textAreaRight" fmla="*/ 17280 w 17280"/>
              <a:gd name="textAreaTop" fmla="*/ 0 h 3414600"/>
              <a:gd name="textAreaBottom" fmla="*/ 3414960 h 3414600"/>
            </a:gdLst>
            <a:ahLst/>
            <a:rect l="textAreaLeft" t="textAreaTop" r="textAreaRight" b="textAreaBottom"/>
            <a:pathLst>
              <a:path w="45" h="8604">
                <a:moveTo>
                  <a:pt x="44" y="0"/>
                </a:moveTo>
                <a:lnTo>
                  <a:pt x="0" y="8603"/>
                </a:lnTo>
                <a:lnTo>
                  <a:pt x="44" y="0"/>
                </a:lnTo>
              </a:path>
            </a:pathLst>
          </a:custGeom>
          <a:solidFill>
            <a:srgbClr val="00b8ff"/>
          </a:solidFill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"/>
          <p:cNvSpPr/>
          <p:nvPr/>
        </p:nvSpPr>
        <p:spPr>
          <a:xfrm>
            <a:off x="1809720" y="2048040"/>
            <a:ext cx="2532240" cy="157464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2600" rIns="102600" tIns="53280" bIns="53280" anchor="t">
            <a:noAutofit/>
          </a:bodyPr>
          <a:p>
            <a:pPr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orberei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tailanaly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Quick w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amenwer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erwijzi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eform 4"/>
          <p:cNvSpPr/>
          <p:nvPr/>
        </p:nvSpPr>
        <p:spPr>
          <a:xfrm>
            <a:off x="6018120" y="3463920"/>
            <a:ext cx="6480" cy="3254400"/>
          </a:xfrm>
          <a:custGeom>
            <a:avLst/>
            <a:gdLst>
              <a:gd name="textAreaLeft" fmla="*/ 0 w 6480"/>
              <a:gd name="textAreaRight" fmla="*/ 6840 w 6480"/>
              <a:gd name="textAreaTop" fmla="*/ 0 h 3254400"/>
              <a:gd name="textAreaBottom" fmla="*/ 3254760 h 3254400"/>
            </a:gdLst>
            <a:ahLst/>
            <a:rect l="textAreaLeft" t="textAreaTop" r="textAreaRight" b="textAreaBottom"/>
            <a:pathLst>
              <a:path w="18" h="8199">
                <a:moveTo>
                  <a:pt x="17" y="0"/>
                </a:moveTo>
                <a:lnTo>
                  <a:pt x="0" y="8198"/>
                </a:lnTo>
                <a:lnTo>
                  <a:pt x="17" y="0"/>
                </a:lnTo>
              </a:path>
            </a:pathLst>
          </a:custGeom>
          <a:solidFill>
            <a:srgbClr val="00b8ff"/>
          </a:solidFill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5"/>
          <p:cNvSpPr/>
          <p:nvPr/>
        </p:nvSpPr>
        <p:spPr>
          <a:xfrm>
            <a:off x="4670280" y="2112840"/>
            <a:ext cx="2610000" cy="17478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2600" rIns="102600" tIns="53280" bIns="53280" anchor="t">
            <a:noAutofit/>
          </a:bodyPr>
          <a:p>
            <a:pPr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otatiewijze modell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odelleringswij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aamge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ositionering berich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6"/>
          <p:cNvSpPr/>
          <p:nvPr/>
        </p:nvSpPr>
        <p:spPr>
          <a:xfrm>
            <a:off x="1557360" y="3940200"/>
            <a:ext cx="8501040" cy="79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7"/>
          <p:cNvSpPr/>
          <p:nvPr/>
        </p:nvSpPr>
        <p:spPr>
          <a:xfrm>
            <a:off x="1725480" y="4495680"/>
            <a:ext cx="841536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8"/>
          <p:cNvSpPr/>
          <p:nvPr/>
        </p:nvSpPr>
        <p:spPr>
          <a:xfrm flipV="1">
            <a:off x="1471680" y="5670360"/>
            <a:ext cx="8632800" cy="73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reeform 9"/>
          <p:cNvSpPr/>
          <p:nvPr/>
        </p:nvSpPr>
        <p:spPr>
          <a:xfrm>
            <a:off x="8962920" y="3543480"/>
            <a:ext cx="25560" cy="3173400"/>
          </a:xfrm>
          <a:custGeom>
            <a:avLst/>
            <a:gdLst>
              <a:gd name="textAreaLeft" fmla="*/ 0 w 25560"/>
              <a:gd name="textAreaRight" fmla="*/ 25920 w 25560"/>
              <a:gd name="textAreaTop" fmla="*/ 0 h 3173400"/>
              <a:gd name="textAreaBottom" fmla="*/ 3173760 h 3173400"/>
            </a:gdLst>
            <a:ahLst/>
            <a:rect l="textAreaLeft" t="textAreaTop" r="textAreaRight" b="textAreaBottom"/>
            <a:pathLst>
              <a:path w="63" h="7996">
                <a:moveTo>
                  <a:pt x="62" y="0"/>
                </a:moveTo>
                <a:lnTo>
                  <a:pt x="0" y="7995"/>
                </a:lnTo>
                <a:lnTo>
                  <a:pt x="62" y="0"/>
                </a:lnTo>
              </a:path>
            </a:pathLst>
          </a:custGeom>
          <a:solidFill>
            <a:srgbClr val="00b8ff"/>
          </a:solidFill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10"/>
          <p:cNvSpPr/>
          <p:nvPr/>
        </p:nvSpPr>
        <p:spPr>
          <a:xfrm>
            <a:off x="7532640" y="2112840"/>
            <a:ext cx="2922480" cy="141768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2600" rIns="102600" tIns="53280" bIns="53280" anchor="t">
            <a:noAutofit/>
          </a:bodyPr>
          <a:p>
            <a:pPr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erichtstandaa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harmonisee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XSD bibliothe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11"/>
          <p:cNvSpPr/>
          <p:nvPr/>
        </p:nvSpPr>
        <p:spPr>
          <a:xfrm>
            <a:off x="3576600" y="1795320"/>
            <a:ext cx="812880" cy="698760"/>
          </a:xfrm>
          <a:prstGeom prst="pie">
            <a:avLst/>
          </a:pr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3280" bIns="53280" anchor="t">
            <a:noAutofit/>
          </a:bodyPr>
          <a:p>
            <a:pPr algn="ctr"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1" i="1" lang="nl-NL" sz="2700" spc="-1" strike="noStrike">
                <a:solidFill>
                  <a:srgbClr val="002060"/>
                </a:solidFill>
                <a:latin typeface="Arial"/>
              </a:rPr>
              <a:t>1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12"/>
          <p:cNvSpPr/>
          <p:nvPr/>
        </p:nvSpPr>
        <p:spPr>
          <a:xfrm>
            <a:off x="6438960" y="1795320"/>
            <a:ext cx="834840" cy="709920"/>
          </a:xfrm>
          <a:prstGeom prst="pie">
            <a:avLst/>
          </a:pr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3280" bIns="53280" anchor="t">
            <a:noAutofit/>
          </a:bodyPr>
          <a:p>
            <a:pPr algn="ctr"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1" i="1" lang="nl-NL" sz="2700" spc="-1" strike="noStrike">
                <a:solidFill>
                  <a:srgbClr val="002060"/>
                </a:solidFill>
                <a:latin typeface="Arial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13"/>
          <p:cNvSpPr/>
          <p:nvPr/>
        </p:nvSpPr>
        <p:spPr>
          <a:xfrm>
            <a:off x="9469440" y="1795320"/>
            <a:ext cx="919080" cy="709920"/>
          </a:xfrm>
          <a:prstGeom prst="pie">
            <a:avLst/>
          </a:pr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3280" bIns="53280" anchor="t">
            <a:noAutofit/>
          </a:bodyPr>
          <a:p>
            <a:pPr algn="ctr"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1" i="1" lang="nl-NL" sz="2700" spc="-1" strike="noStrike">
                <a:solidFill>
                  <a:srgbClr val="002060"/>
                </a:solidFill>
                <a:latin typeface="Arial"/>
              </a:rPr>
              <a:t>3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14"/>
          <p:cNvSpPr/>
          <p:nvPr/>
        </p:nvSpPr>
        <p:spPr>
          <a:xfrm flipV="1">
            <a:off x="1725480" y="5208480"/>
            <a:ext cx="833292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15"/>
          <p:cNvSpPr/>
          <p:nvPr/>
        </p:nvSpPr>
        <p:spPr>
          <a:xfrm flipV="1">
            <a:off x="1809720" y="5525640"/>
            <a:ext cx="8331120" cy="32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6"/>
          <p:cNvSpPr/>
          <p:nvPr/>
        </p:nvSpPr>
        <p:spPr>
          <a:xfrm>
            <a:off x="209520" y="5052960"/>
            <a:ext cx="3830760" cy="316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3280" bIns="53280" anchor="ctr">
            <a:noAutofit/>
          </a:bodyPr>
          <a:p>
            <a:pPr algn="ctr"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meenschappelijke semanti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7"/>
          <p:cNvSpPr/>
          <p:nvPr/>
        </p:nvSpPr>
        <p:spPr>
          <a:xfrm>
            <a:off x="209520" y="3860640"/>
            <a:ext cx="3830760" cy="316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3280" bIns="53280" anchor="ctr">
            <a:noAutofit/>
          </a:bodyPr>
          <a:p>
            <a:pPr algn="ctr"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amenwer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8"/>
          <p:cNvSpPr/>
          <p:nvPr/>
        </p:nvSpPr>
        <p:spPr>
          <a:xfrm>
            <a:off x="209520" y="4495680"/>
            <a:ext cx="3830760" cy="3175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3280" bIns="53280" anchor="ctr">
            <a:noAutofit/>
          </a:bodyPr>
          <a:p>
            <a:pPr algn="ctr"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rmonisatie  van standaa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9"/>
          <p:cNvSpPr/>
          <p:nvPr/>
        </p:nvSpPr>
        <p:spPr>
          <a:xfrm>
            <a:off x="209520" y="5688000"/>
            <a:ext cx="3830760" cy="3175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3280" bIns="53280" anchor="ctr">
            <a:noAutofit/>
          </a:bodyPr>
          <a:p>
            <a:pPr algn="ctr"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deelde berichtstructu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20"/>
          <p:cNvSpPr/>
          <p:nvPr/>
        </p:nvSpPr>
        <p:spPr>
          <a:xfrm>
            <a:off x="250920" y="6381720"/>
            <a:ext cx="3828960" cy="316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3280" bIns="53280" anchor="ctr">
            <a:noAutofit/>
          </a:bodyPr>
          <a:p>
            <a:pPr algn="ctr"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aktijkvoorbeel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21"/>
          <p:cNvSpPr/>
          <p:nvPr/>
        </p:nvSpPr>
        <p:spPr>
          <a:xfrm>
            <a:off x="9383760" y="2986200"/>
            <a:ext cx="1087560" cy="709560"/>
          </a:xfrm>
          <a:prstGeom prst="pie">
            <a:avLst/>
          </a:pr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3280" bIns="53280" anchor="t">
            <a:noAutofit/>
          </a:bodyPr>
          <a:p>
            <a:pPr algn="ctr"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1" i="1" lang="nl-NL" sz="2700" spc="-1" strike="noStrike">
                <a:solidFill>
                  <a:srgbClr val="002060"/>
                </a:solidFill>
                <a:latin typeface="Arial"/>
              </a:rPr>
              <a:t>3b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22"/>
          <p:cNvSpPr/>
          <p:nvPr/>
        </p:nvSpPr>
        <p:spPr>
          <a:xfrm>
            <a:off x="8631360" y="1066680"/>
            <a:ext cx="1766880" cy="555840"/>
          </a:xfrm>
          <a:prstGeom prst="wedgeRectCallout">
            <a:avLst>
              <a:gd name="adj1" fmla="val 23004"/>
              <a:gd name="adj2" fmla="val 13675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3280" bIns="53280" anchor="t">
            <a:noAutofit/>
          </a:bodyPr>
          <a:p>
            <a:pPr algn="ctr"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Met info.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stels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23"/>
          <p:cNvSpPr/>
          <p:nvPr/>
        </p:nvSpPr>
        <p:spPr>
          <a:xfrm>
            <a:off x="8205840" y="3781440"/>
            <a:ext cx="2104920" cy="557280"/>
          </a:xfrm>
          <a:prstGeom prst="wedgeRectCallout">
            <a:avLst>
              <a:gd name="adj1" fmla="val 29541"/>
              <a:gd name="adj2" fmla="val -8742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3280" bIns="53280" anchor="t">
            <a:noAutofit/>
          </a:bodyPr>
          <a:p>
            <a:pPr algn="ctr"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Zon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Info.model stels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24"/>
          <p:cNvSpPr/>
          <p:nvPr/>
        </p:nvSpPr>
        <p:spPr>
          <a:xfrm>
            <a:off x="2486160" y="146160"/>
            <a:ext cx="58640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3280" bIns="53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Harmonisatie aanpak </a:t>
            </a:r>
            <a:br>
              <a:rPr sz="2800"/>
            </a:b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in 3 plateaus</a:t>
            </a:r>
            <a:br>
              <a:rPr sz="2800"/>
            </a:b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met 2 scenario’s voor plateau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5" descr=""/>
          <p:cNvPicPr/>
          <p:nvPr/>
        </p:nvPicPr>
        <p:blipFill>
          <a:blip r:embed="rId1"/>
          <a:stretch/>
        </p:blipFill>
        <p:spPr>
          <a:xfrm>
            <a:off x="8831160" y="0"/>
            <a:ext cx="1857600" cy="89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1"/>
          <p:cNvSpPr/>
          <p:nvPr/>
        </p:nvSpPr>
        <p:spPr>
          <a:xfrm>
            <a:off x="2486160" y="966960"/>
            <a:ext cx="7738920" cy="11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3280" bIns="53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Verdana"/>
              </a:rPr>
              <a:t>Harmonis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2"/>
          <p:cNvSpPr/>
          <p:nvPr/>
        </p:nvSpPr>
        <p:spPr>
          <a:xfrm>
            <a:off x="2486160" y="2495520"/>
            <a:ext cx="7738920" cy="151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3280" bIns="53280" anchor="t">
            <a:noAutofit/>
          </a:bodyPr>
          <a:p>
            <a:pPr marL="388800" indent="-388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9060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Onderverdeeld 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AutoNum type="arabicPeriod"/>
              <a:tabLst>
                <a:tab algn="l" pos="39060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Informatieharmonis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AutoNum type="arabicPeriod"/>
              <a:tabLst>
                <a:tab algn="l" pos="39060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Berichtmodellen en functionalit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AutoNum type="arabicPeriod"/>
              <a:tabLst>
                <a:tab algn="l" pos="39060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Samenwerking tussen de beheerorganisa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5" descr=""/>
          <p:cNvPicPr/>
          <p:nvPr/>
        </p:nvPicPr>
        <p:blipFill>
          <a:blip r:embed="rId1"/>
          <a:stretch/>
        </p:blipFill>
        <p:spPr>
          <a:xfrm>
            <a:off x="8831160" y="0"/>
            <a:ext cx="1857600" cy="89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2557440" y="1155600"/>
            <a:ext cx="766908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3280" bIns="53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Inh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2486160" y="2509920"/>
            <a:ext cx="7740360" cy="44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3280" bIns="53280" anchor="t">
            <a:noAutofit/>
          </a:bodyPr>
          <a:p>
            <a:pPr>
              <a:lnSpc>
                <a:spcPct val="90000"/>
              </a:lnSpc>
              <a:spcBef>
                <a:spcPts val="68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119160"/>
                <a:tab algn="l" pos="631800"/>
                <a:tab algn="l" pos="1143000"/>
                <a:tab algn="l" pos="1655640"/>
                <a:tab algn="l" pos="2168640"/>
                <a:tab algn="l" pos="2681280"/>
                <a:tab algn="l" pos="3192480"/>
                <a:tab algn="l" pos="3705120"/>
                <a:tab algn="l" pos="4218120"/>
                <a:tab algn="l" pos="4730760"/>
                <a:tab algn="l" pos="5241960"/>
                <a:tab algn="l" pos="5754600"/>
                <a:tab algn="l" pos="6267600"/>
                <a:tab algn="l" pos="6780240"/>
                <a:tab algn="l" pos="7291440"/>
                <a:tab algn="l" pos="7804080"/>
                <a:tab algn="l" pos="8317080"/>
                <a:tab algn="l" pos="8829720"/>
                <a:tab algn="l" pos="9340920"/>
                <a:tab algn="l" pos="985356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Noodzaa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8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119160"/>
                <a:tab algn="l" pos="631800"/>
                <a:tab algn="l" pos="1143000"/>
                <a:tab algn="l" pos="1655640"/>
                <a:tab algn="l" pos="2168640"/>
                <a:tab algn="l" pos="2681280"/>
                <a:tab algn="l" pos="3192480"/>
                <a:tab algn="l" pos="3705120"/>
                <a:tab algn="l" pos="4218120"/>
                <a:tab algn="l" pos="4730760"/>
                <a:tab algn="l" pos="5241960"/>
                <a:tab algn="l" pos="5754600"/>
                <a:tab algn="l" pos="6267600"/>
                <a:tab algn="l" pos="6780240"/>
                <a:tab algn="l" pos="7291440"/>
                <a:tab algn="l" pos="7804080"/>
                <a:tab algn="l" pos="8317080"/>
                <a:tab algn="l" pos="8829720"/>
                <a:tab algn="l" pos="9340920"/>
                <a:tab algn="l" pos="985356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Aanp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8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119160"/>
                <a:tab algn="l" pos="631800"/>
                <a:tab algn="l" pos="1143000"/>
                <a:tab algn="l" pos="1655640"/>
                <a:tab algn="l" pos="2168640"/>
                <a:tab algn="l" pos="2681280"/>
                <a:tab algn="l" pos="3192480"/>
                <a:tab algn="l" pos="3705120"/>
                <a:tab algn="l" pos="4218120"/>
                <a:tab algn="l" pos="4730760"/>
                <a:tab algn="l" pos="5241960"/>
                <a:tab algn="l" pos="5754600"/>
                <a:tab algn="l" pos="6267600"/>
                <a:tab algn="l" pos="6780240"/>
                <a:tab algn="l" pos="7291440"/>
                <a:tab algn="l" pos="7804080"/>
                <a:tab algn="l" pos="8317080"/>
                <a:tab algn="l" pos="8829720"/>
                <a:tab algn="l" pos="9340920"/>
                <a:tab algn="l" pos="985356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Harmonis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3960">
              <a:lnSpc>
                <a:spcPct val="90000"/>
              </a:lnSpc>
              <a:spcBef>
                <a:spcPts val="68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119160"/>
                <a:tab algn="l" pos="631800"/>
                <a:tab algn="l" pos="1143000"/>
                <a:tab algn="l" pos="1655640"/>
                <a:tab algn="l" pos="2168640"/>
                <a:tab algn="l" pos="2681280"/>
                <a:tab algn="l" pos="3192480"/>
                <a:tab algn="l" pos="3705120"/>
                <a:tab algn="l" pos="4218120"/>
                <a:tab algn="l" pos="4730760"/>
                <a:tab algn="l" pos="5241960"/>
                <a:tab algn="l" pos="5754600"/>
                <a:tab algn="l" pos="6267600"/>
                <a:tab algn="l" pos="6780240"/>
                <a:tab algn="l" pos="7291440"/>
                <a:tab algn="l" pos="7804080"/>
                <a:tab algn="l" pos="8317080"/>
                <a:tab algn="l" pos="8829720"/>
                <a:tab algn="l" pos="9340920"/>
                <a:tab algn="l" pos="985356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Informatieharmonis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3960">
              <a:lnSpc>
                <a:spcPct val="90000"/>
              </a:lnSpc>
              <a:spcBef>
                <a:spcPts val="68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119160"/>
                <a:tab algn="l" pos="631800"/>
                <a:tab algn="l" pos="1143000"/>
                <a:tab algn="l" pos="1655640"/>
                <a:tab algn="l" pos="2168640"/>
                <a:tab algn="l" pos="2681280"/>
                <a:tab algn="l" pos="3192480"/>
                <a:tab algn="l" pos="3705120"/>
                <a:tab algn="l" pos="4218120"/>
                <a:tab algn="l" pos="4730760"/>
                <a:tab algn="l" pos="5241960"/>
                <a:tab algn="l" pos="5754600"/>
                <a:tab algn="l" pos="6267600"/>
                <a:tab algn="l" pos="6780240"/>
                <a:tab algn="l" pos="7291440"/>
                <a:tab algn="l" pos="7804080"/>
                <a:tab algn="l" pos="8317080"/>
                <a:tab algn="l" pos="8829720"/>
                <a:tab algn="l" pos="9340920"/>
                <a:tab algn="l" pos="985356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Bericht harmonis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8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119160"/>
                <a:tab algn="l" pos="631800"/>
                <a:tab algn="l" pos="1143000"/>
                <a:tab algn="l" pos="1655640"/>
                <a:tab algn="l" pos="2168640"/>
                <a:tab algn="l" pos="2681280"/>
                <a:tab algn="l" pos="3192480"/>
                <a:tab algn="l" pos="3705120"/>
                <a:tab algn="l" pos="4218120"/>
                <a:tab algn="l" pos="4730760"/>
                <a:tab algn="l" pos="5241960"/>
                <a:tab algn="l" pos="5754600"/>
                <a:tab algn="l" pos="6267600"/>
                <a:tab algn="l" pos="6780240"/>
                <a:tab algn="l" pos="7291440"/>
                <a:tab algn="l" pos="7804080"/>
                <a:tab algn="l" pos="8317080"/>
                <a:tab algn="l" pos="8829720"/>
                <a:tab algn="l" pos="9340920"/>
                <a:tab algn="l" pos="985356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Plateaugewijze aanpa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8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119160"/>
                <a:tab algn="l" pos="631800"/>
                <a:tab algn="l" pos="1143000"/>
                <a:tab algn="l" pos="1655640"/>
                <a:tab algn="l" pos="2168640"/>
                <a:tab algn="l" pos="2681280"/>
                <a:tab algn="l" pos="3192480"/>
                <a:tab algn="l" pos="3705120"/>
                <a:tab algn="l" pos="4218120"/>
                <a:tab algn="l" pos="4730760"/>
                <a:tab algn="l" pos="5241960"/>
                <a:tab algn="l" pos="5754600"/>
                <a:tab algn="l" pos="6267600"/>
                <a:tab algn="l" pos="6780240"/>
                <a:tab algn="l" pos="7291440"/>
                <a:tab algn="l" pos="7804080"/>
                <a:tab algn="l" pos="8317080"/>
                <a:tab algn="l" pos="8829720"/>
                <a:tab algn="l" pos="9340920"/>
                <a:tab algn="l" pos="985356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Vervol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8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119160"/>
                <a:tab algn="l" pos="631800"/>
                <a:tab algn="l" pos="1143000"/>
                <a:tab algn="l" pos="1655640"/>
                <a:tab algn="l" pos="2168640"/>
                <a:tab algn="l" pos="2681280"/>
                <a:tab algn="l" pos="3192480"/>
                <a:tab algn="l" pos="3705120"/>
                <a:tab algn="l" pos="4218120"/>
                <a:tab algn="l" pos="4730760"/>
                <a:tab algn="l" pos="5241960"/>
                <a:tab algn="l" pos="5754600"/>
                <a:tab algn="l" pos="6267600"/>
                <a:tab algn="l" pos="6780240"/>
                <a:tab algn="l" pos="7291440"/>
                <a:tab algn="l" pos="7804080"/>
                <a:tab algn="l" pos="8317080"/>
                <a:tab algn="l" pos="8829720"/>
                <a:tab algn="l" pos="9340920"/>
                <a:tab algn="l" pos="985356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Discuss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119160"/>
                <a:tab algn="l" pos="631800"/>
                <a:tab algn="l" pos="1143000"/>
                <a:tab algn="l" pos="1655640"/>
                <a:tab algn="l" pos="2168640"/>
                <a:tab algn="l" pos="2681280"/>
                <a:tab algn="l" pos="3192480"/>
                <a:tab algn="l" pos="3705120"/>
                <a:tab algn="l" pos="4218120"/>
                <a:tab algn="l" pos="4730760"/>
                <a:tab algn="l" pos="5241960"/>
                <a:tab algn="l" pos="5754600"/>
                <a:tab algn="l" pos="6267600"/>
                <a:tab algn="l" pos="6780240"/>
                <a:tab algn="l" pos="7291440"/>
                <a:tab algn="l" pos="7804080"/>
                <a:tab algn="l" pos="8317080"/>
                <a:tab algn="l" pos="8829720"/>
                <a:tab algn="l" pos="9340920"/>
                <a:tab algn="l" pos="98535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8831160" y="0"/>
            <a:ext cx="1857600" cy="89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1"/>
          <p:cNvSpPr/>
          <p:nvPr/>
        </p:nvSpPr>
        <p:spPr>
          <a:xfrm>
            <a:off x="2486160" y="1179360"/>
            <a:ext cx="779760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3280" bIns="53280" anchor="ctr">
            <a:noAutofit/>
          </a:bodyPr>
          <a:p>
            <a:pPr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Voornaamste issues informatieharmonis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"/>
          <p:cNvSpPr/>
          <p:nvPr/>
        </p:nvSpPr>
        <p:spPr>
          <a:xfrm>
            <a:off x="2486160" y="2638440"/>
            <a:ext cx="7715160" cy="151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3280" bIns="53280" anchor="t">
            <a:noAutofit/>
          </a:bodyPr>
          <a:p>
            <a:pPr marL="584280" indent="-5842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584280"/>
                <a:tab algn="l" pos="703440"/>
                <a:tab algn="l" pos="1216080"/>
                <a:tab algn="l" pos="1728720"/>
                <a:tab algn="l" pos="2239920"/>
                <a:tab algn="l" pos="2752560"/>
                <a:tab algn="l" pos="3265560"/>
                <a:tab algn="l" pos="3778200"/>
                <a:tab algn="l" pos="4289400"/>
                <a:tab algn="l" pos="4802040"/>
                <a:tab algn="l" pos="5315040"/>
                <a:tab algn="l" pos="5827680"/>
                <a:tab algn="l" pos="6340320"/>
                <a:tab algn="l" pos="6851520"/>
                <a:tab algn="l" pos="7364520"/>
                <a:tab algn="l" pos="7877160"/>
                <a:tab algn="l" pos="8389800"/>
                <a:tab algn="l" pos="8901000"/>
                <a:tab algn="l" pos="9414000"/>
                <a:tab algn="l" pos="9926640"/>
                <a:tab algn="l" pos="104392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otatiewijze modell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4280" indent="-5842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584280"/>
                <a:tab algn="l" pos="703440"/>
                <a:tab algn="l" pos="1216080"/>
                <a:tab algn="l" pos="1728720"/>
                <a:tab algn="l" pos="2239920"/>
                <a:tab algn="l" pos="2752560"/>
                <a:tab algn="l" pos="3265560"/>
                <a:tab algn="l" pos="3778200"/>
                <a:tab algn="l" pos="4289400"/>
                <a:tab algn="l" pos="4802040"/>
                <a:tab algn="l" pos="5315040"/>
                <a:tab algn="l" pos="5827680"/>
                <a:tab algn="l" pos="6340320"/>
                <a:tab algn="l" pos="6851520"/>
                <a:tab algn="l" pos="7364520"/>
                <a:tab algn="l" pos="7877160"/>
                <a:tab algn="l" pos="8389800"/>
                <a:tab algn="l" pos="8901000"/>
                <a:tab algn="l" pos="9414000"/>
                <a:tab algn="l" pos="9926640"/>
                <a:tab algn="l" pos="104392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ijze van modell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4280" indent="-5842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584280"/>
                <a:tab algn="l" pos="703440"/>
                <a:tab algn="l" pos="1216080"/>
                <a:tab algn="l" pos="1728720"/>
                <a:tab algn="l" pos="2239920"/>
                <a:tab algn="l" pos="2752560"/>
                <a:tab algn="l" pos="3265560"/>
                <a:tab algn="l" pos="3778200"/>
                <a:tab algn="l" pos="4289400"/>
                <a:tab algn="l" pos="4802040"/>
                <a:tab algn="l" pos="5315040"/>
                <a:tab algn="l" pos="5827680"/>
                <a:tab algn="l" pos="6340320"/>
                <a:tab algn="l" pos="6851520"/>
                <a:tab algn="l" pos="7364520"/>
                <a:tab algn="l" pos="7877160"/>
                <a:tab algn="l" pos="8389800"/>
                <a:tab algn="l" pos="8901000"/>
                <a:tab algn="l" pos="9414000"/>
                <a:tab algn="l" pos="9926640"/>
                <a:tab algn="l" pos="104392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amgeving van objecten en attribu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4280" indent="-5842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584280"/>
                <a:tab algn="l" pos="703440"/>
                <a:tab algn="l" pos="1216080"/>
                <a:tab algn="l" pos="1728720"/>
                <a:tab algn="l" pos="2239920"/>
                <a:tab algn="l" pos="2752560"/>
                <a:tab algn="l" pos="3265560"/>
                <a:tab algn="l" pos="3778200"/>
                <a:tab algn="l" pos="4289400"/>
                <a:tab algn="l" pos="4802040"/>
                <a:tab algn="l" pos="5315040"/>
                <a:tab algn="l" pos="5827680"/>
                <a:tab algn="l" pos="6340320"/>
                <a:tab algn="l" pos="6851520"/>
                <a:tab algn="l" pos="7364520"/>
                <a:tab algn="l" pos="7877160"/>
                <a:tab algn="l" pos="8389800"/>
                <a:tab algn="l" pos="8901000"/>
                <a:tab algn="l" pos="9414000"/>
                <a:tab algn="l" pos="9926640"/>
                <a:tab algn="l" pos="104392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Metagegev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4280" indent="-5842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584280"/>
                <a:tab algn="l" pos="703440"/>
                <a:tab algn="l" pos="1216080"/>
                <a:tab algn="l" pos="1728720"/>
                <a:tab algn="l" pos="2239920"/>
                <a:tab algn="l" pos="2752560"/>
                <a:tab algn="l" pos="3265560"/>
                <a:tab algn="l" pos="3778200"/>
                <a:tab algn="l" pos="4289400"/>
                <a:tab algn="l" pos="4802040"/>
                <a:tab algn="l" pos="5315040"/>
                <a:tab algn="l" pos="5827680"/>
                <a:tab algn="l" pos="6340320"/>
                <a:tab algn="l" pos="6851520"/>
                <a:tab algn="l" pos="7364520"/>
                <a:tab algn="l" pos="7877160"/>
                <a:tab algn="l" pos="8389800"/>
                <a:tab algn="l" pos="8901000"/>
                <a:tab algn="l" pos="9414000"/>
                <a:tab algn="l" pos="9926640"/>
                <a:tab algn="l" pos="104392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ometr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4280" indent="-5842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584280"/>
                <a:tab algn="l" pos="703440"/>
                <a:tab algn="l" pos="1216080"/>
                <a:tab algn="l" pos="1728720"/>
                <a:tab algn="l" pos="2239920"/>
                <a:tab algn="l" pos="2752560"/>
                <a:tab algn="l" pos="3265560"/>
                <a:tab algn="l" pos="3778200"/>
                <a:tab algn="l" pos="4289400"/>
                <a:tab algn="l" pos="4802040"/>
                <a:tab algn="l" pos="5315040"/>
                <a:tab algn="l" pos="5827680"/>
                <a:tab algn="l" pos="6340320"/>
                <a:tab algn="l" pos="6851520"/>
                <a:tab algn="l" pos="7364520"/>
                <a:tab algn="l" pos="7877160"/>
                <a:tab algn="l" pos="8389800"/>
                <a:tab algn="l" pos="8901000"/>
                <a:tab algn="l" pos="9414000"/>
                <a:tab algn="l" pos="9926640"/>
                <a:tab algn="l" pos="104392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istor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4280" indent="-5842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584280"/>
                <a:tab algn="l" pos="703440"/>
                <a:tab algn="l" pos="1216080"/>
                <a:tab algn="l" pos="1728720"/>
                <a:tab algn="l" pos="2239920"/>
                <a:tab algn="l" pos="2752560"/>
                <a:tab algn="l" pos="3265560"/>
                <a:tab algn="l" pos="3778200"/>
                <a:tab algn="l" pos="4289400"/>
                <a:tab algn="l" pos="4802040"/>
                <a:tab algn="l" pos="5315040"/>
                <a:tab algn="l" pos="5827680"/>
                <a:tab algn="l" pos="6340320"/>
                <a:tab algn="l" pos="6851520"/>
                <a:tab algn="l" pos="7364520"/>
                <a:tab algn="l" pos="7877160"/>
                <a:tab algn="l" pos="8389800"/>
                <a:tab algn="l" pos="8901000"/>
                <a:tab algn="l" pos="9414000"/>
                <a:tab algn="l" pos="9926640"/>
                <a:tab algn="l" pos="104392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gevens zonder waar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4280" indent="-5842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584280"/>
                <a:tab algn="l" pos="703440"/>
                <a:tab algn="l" pos="1216080"/>
                <a:tab algn="l" pos="1728720"/>
                <a:tab algn="l" pos="2239920"/>
                <a:tab algn="l" pos="2752560"/>
                <a:tab algn="l" pos="3265560"/>
                <a:tab algn="l" pos="3778200"/>
                <a:tab algn="l" pos="4289400"/>
                <a:tab algn="l" pos="4802040"/>
                <a:tab algn="l" pos="5315040"/>
                <a:tab algn="l" pos="5827680"/>
                <a:tab algn="l" pos="6340320"/>
                <a:tab algn="l" pos="6851520"/>
                <a:tab algn="l" pos="7364520"/>
                <a:tab algn="l" pos="7877160"/>
                <a:tab algn="l" pos="8389800"/>
                <a:tab algn="l" pos="8901000"/>
                <a:tab algn="l" pos="9414000"/>
                <a:tab algn="l" pos="9926640"/>
                <a:tab algn="l" pos="104392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dentific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4280" indent="-584280">
              <a:spcBef>
                <a:spcPts val="799"/>
              </a:spcBef>
              <a:tabLst>
                <a:tab algn="l" pos="0"/>
                <a:tab algn="l" pos="584280"/>
                <a:tab algn="l" pos="703440"/>
                <a:tab algn="l" pos="1216080"/>
                <a:tab algn="l" pos="1728720"/>
                <a:tab algn="l" pos="2239920"/>
                <a:tab algn="l" pos="2752560"/>
                <a:tab algn="l" pos="3265560"/>
                <a:tab algn="l" pos="3778200"/>
                <a:tab algn="l" pos="4289400"/>
                <a:tab algn="l" pos="4802040"/>
                <a:tab algn="l" pos="5315040"/>
                <a:tab algn="l" pos="5827680"/>
                <a:tab algn="l" pos="6340320"/>
                <a:tab algn="l" pos="6851520"/>
                <a:tab algn="l" pos="7364520"/>
                <a:tab algn="l" pos="7877160"/>
                <a:tab algn="l" pos="8389800"/>
                <a:tab algn="l" pos="8901000"/>
                <a:tab algn="l" pos="9414000"/>
                <a:tab algn="l" pos="9926640"/>
                <a:tab algn="l" pos="104392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4280" indent="-584280">
              <a:spcBef>
                <a:spcPts val="799"/>
              </a:spcBef>
              <a:tabLst>
                <a:tab algn="l" pos="0"/>
                <a:tab algn="l" pos="584280"/>
                <a:tab algn="l" pos="703440"/>
                <a:tab algn="l" pos="1216080"/>
                <a:tab algn="l" pos="1728720"/>
                <a:tab algn="l" pos="2239920"/>
                <a:tab algn="l" pos="2752560"/>
                <a:tab algn="l" pos="3265560"/>
                <a:tab algn="l" pos="3778200"/>
                <a:tab algn="l" pos="4289400"/>
                <a:tab algn="l" pos="4802040"/>
                <a:tab algn="l" pos="5315040"/>
                <a:tab algn="l" pos="5827680"/>
                <a:tab algn="l" pos="6340320"/>
                <a:tab algn="l" pos="6851520"/>
                <a:tab algn="l" pos="7364520"/>
                <a:tab algn="l" pos="7877160"/>
                <a:tab algn="l" pos="8389800"/>
                <a:tab algn="l" pos="8901000"/>
                <a:tab algn="l" pos="9414000"/>
                <a:tab algn="l" pos="9926640"/>
                <a:tab algn="l" pos="104392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4280" indent="-584280">
              <a:spcBef>
                <a:spcPts val="799"/>
              </a:spcBef>
              <a:tabLst>
                <a:tab algn="l" pos="0"/>
                <a:tab algn="l" pos="584280"/>
                <a:tab algn="l" pos="703440"/>
                <a:tab algn="l" pos="1216080"/>
                <a:tab algn="l" pos="1728720"/>
                <a:tab algn="l" pos="2239920"/>
                <a:tab algn="l" pos="2752560"/>
                <a:tab algn="l" pos="3265560"/>
                <a:tab algn="l" pos="3778200"/>
                <a:tab algn="l" pos="4289400"/>
                <a:tab algn="l" pos="4802040"/>
                <a:tab algn="l" pos="5315040"/>
                <a:tab algn="l" pos="5827680"/>
                <a:tab algn="l" pos="6340320"/>
                <a:tab algn="l" pos="6851520"/>
                <a:tab algn="l" pos="7364520"/>
                <a:tab algn="l" pos="7877160"/>
                <a:tab algn="l" pos="8389800"/>
                <a:tab algn="l" pos="8901000"/>
                <a:tab algn="l" pos="9414000"/>
                <a:tab algn="l" pos="9926640"/>
                <a:tab algn="l" pos="104392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5" descr=""/>
          <p:cNvPicPr/>
          <p:nvPr/>
        </p:nvPicPr>
        <p:blipFill>
          <a:blip r:embed="rId1"/>
          <a:stretch/>
        </p:blipFill>
        <p:spPr>
          <a:xfrm>
            <a:off x="8831160" y="0"/>
            <a:ext cx="1857600" cy="89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1"/>
          <p:cNvSpPr/>
          <p:nvPr/>
        </p:nvSpPr>
        <p:spPr>
          <a:xfrm>
            <a:off x="2486160" y="1179360"/>
            <a:ext cx="779760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3280" bIns="53280" anchor="ctr">
            <a:noAutofit/>
          </a:bodyPr>
          <a:p>
            <a:pPr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Voornaamste issues</a:t>
            </a:r>
            <a:br>
              <a:rPr sz="3200"/>
            </a:b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berichtmodellen en functionalit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2"/>
          <p:cNvSpPr/>
          <p:nvPr/>
        </p:nvSpPr>
        <p:spPr>
          <a:xfrm>
            <a:off x="919080" y="2363760"/>
            <a:ext cx="9282240" cy="151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3280" bIns="5328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585720"/>
                <a:tab algn="l" pos="704880"/>
                <a:tab algn="l" pos="1217520"/>
                <a:tab algn="l" pos="1730520"/>
                <a:tab algn="l" pos="2243160"/>
                <a:tab algn="l" pos="2754360"/>
                <a:tab algn="l" pos="3267000"/>
                <a:tab algn="l" pos="3780000"/>
                <a:tab algn="l" pos="4292640"/>
                <a:tab algn="l" pos="4803840"/>
                <a:tab algn="l" pos="5316480"/>
                <a:tab algn="l" pos="5829480"/>
                <a:tab algn="l" pos="6342120"/>
                <a:tab algn="l" pos="6853320"/>
                <a:tab algn="l" pos="7365960"/>
                <a:tab algn="l" pos="7878600"/>
                <a:tab algn="l" pos="8391600"/>
                <a:tab algn="l" pos="8902800"/>
                <a:tab algn="l" pos="9415440"/>
                <a:tab algn="l" pos="9928080"/>
                <a:tab algn="l" pos="10441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585720"/>
                <a:tab algn="l" pos="704880"/>
                <a:tab algn="l" pos="1217520"/>
                <a:tab algn="l" pos="1730520"/>
                <a:tab algn="l" pos="2243160"/>
                <a:tab algn="l" pos="2754360"/>
                <a:tab algn="l" pos="3267000"/>
                <a:tab algn="l" pos="3780000"/>
                <a:tab algn="l" pos="4292640"/>
                <a:tab algn="l" pos="4803840"/>
                <a:tab algn="l" pos="5316480"/>
                <a:tab algn="l" pos="5829480"/>
                <a:tab algn="l" pos="6342120"/>
                <a:tab algn="l" pos="6853320"/>
                <a:tab algn="l" pos="7365960"/>
                <a:tab algn="l" pos="7878600"/>
                <a:tab algn="l" pos="8391600"/>
                <a:tab algn="l" pos="8902800"/>
                <a:tab algn="l" pos="9415440"/>
                <a:tab algn="l" pos="9928080"/>
                <a:tab algn="l" pos="10441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585720"/>
                <a:tab algn="l" pos="704880"/>
                <a:tab algn="l" pos="1217520"/>
                <a:tab algn="l" pos="1730520"/>
                <a:tab algn="l" pos="2243160"/>
                <a:tab algn="l" pos="2754360"/>
                <a:tab algn="l" pos="3267000"/>
                <a:tab algn="l" pos="3780000"/>
                <a:tab algn="l" pos="4292640"/>
                <a:tab algn="l" pos="4803840"/>
                <a:tab algn="l" pos="5316480"/>
                <a:tab algn="l" pos="5829480"/>
                <a:tab algn="l" pos="6342120"/>
                <a:tab algn="l" pos="6853320"/>
                <a:tab algn="l" pos="7365960"/>
                <a:tab algn="l" pos="7878600"/>
                <a:tab algn="l" pos="8391600"/>
                <a:tab algn="l" pos="8902800"/>
                <a:tab algn="l" pos="9415440"/>
                <a:tab algn="l" pos="9928080"/>
                <a:tab algn="l" pos="10441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4" descr=""/>
          <p:cNvPicPr/>
          <p:nvPr/>
        </p:nvPicPr>
        <p:blipFill>
          <a:blip r:embed="rId1"/>
          <a:stretch/>
        </p:blipFill>
        <p:spPr>
          <a:xfrm>
            <a:off x="0" y="4411800"/>
            <a:ext cx="10688760" cy="299376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5"/>
          <p:cNvSpPr/>
          <p:nvPr/>
        </p:nvSpPr>
        <p:spPr>
          <a:xfrm>
            <a:off x="7182000" y="4884840"/>
            <a:ext cx="1920600" cy="4730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6"/>
          <p:cNvSpPr/>
          <p:nvPr/>
        </p:nvSpPr>
        <p:spPr>
          <a:xfrm>
            <a:off x="7182000" y="5672160"/>
            <a:ext cx="3422520" cy="37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7"/>
          <p:cNvSpPr/>
          <p:nvPr/>
        </p:nvSpPr>
        <p:spPr>
          <a:xfrm>
            <a:off x="7182000" y="6066000"/>
            <a:ext cx="3422520" cy="37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8"/>
          <p:cNvSpPr/>
          <p:nvPr/>
        </p:nvSpPr>
        <p:spPr>
          <a:xfrm>
            <a:off x="7182000" y="6459480"/>
            <a:ext cx="3422520" cy="37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9"/>
          <p:cNvSpPr/>
          <p:nvPr/>
        </p:nvSpPr>
        <p:spPr>
          <a:xfrm>
            <a:off x="7182000" y="6853320"/>
            <a:ext cx="3422520" cy="37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0"/>
          <p:cNvSpPr/>
          <p:nvPr/>
        </p:nvSpPr>
        <p:spPr>
          <a:xfrm>
            <a:off x="7264440" y="6932520"/>
            <a:ext cx="3424320" cy="373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Group 11"/>
          <p:cNvGrpSpPr/>
          <p:nvPr/>
        </p:nvGrpSpPr>
        <p:grpSpPr>
          <a:xfrm>
            <a:off x="7264440" y="4884840"/>
            <a:ext cx="1503000" cy="1553040"/>
            <a:chOff x="7264440" y="4884840"/>
            <a:chExt cx="1503000" cy="1553040"/>
          </a:xfrm>
        </p:grpSpPr>
        <p:sp>
          <p:nvSpPr>
            <p:cNvPr id="351" name="Rectangle 12"/>
            <p:cNvSpPr/>
            <p:nvPr/>
          </p:nvSpPr>
          <p:spPr>
            <a:xfrm>
              <a:off x="7264440" y="4884840"/>
              <a:ext cx="1503000" cy="1260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 Box 13"/>
            <p:cNvSpPr/>
            <p:nvPr/>
          </p:nvSpPr>
          <p:spPr>
            <a:xfrm>
              <a:off x="7422120" y="5033520"/>
              <a:ext cx="1218960" cy="140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509760"/>
                  <a:tab algn="l" pos="1022400"/>
                  <a:tab algn="l" pos="1535040"/>
                  <a:tab algn="l" pos="2046240"/>
                  <a:tab algn="l" pos="2558880"/>
                  <a:tab algn="l" pos="3071880"/>
                  <a:tab algn="l" pos="3584520"/>
                  <a:tab algn="l" pos="4095720"/>
                  <a:tab algn="l" pos="4608360"/>
                  <a:tab algn="l" pos="5121360"/>
                  <a:tab algn="l" pos="5634000"/>
                  <a:tab algn="l" pos="6145200"/>
                  <a:tab algn="l" pos="6657840"/>
                  <a:tab algn="l" pos="7170840"/>
                  <a:tab algn="l" pos="7683480"/>
                  <a:tab algn="l" pos="8196120"/>
                  <a:tab algn="l" pos="8707320"/>
                  <a:tab algn="l" pos="9220320"/>
                  <a:tab algn="l" pos="9732960"/>
                  <a:tab algn="l" pos="102456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GC 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509760"/>
                  <a:tab algn="l" pos="1022400"/>
                  <a:tab algn="l" pos="1535040"/>
                  <a:tab algn="l" pos="2046240"/>
                  <a:tab algn="l" pos="2558880"/>
                  <a:tab algn="l" pos="3071880"/>
                  <a:tab algn="l" pos="3584520"/>
                  <a:tab algn="l" pos="4095720"/>
                  <a:tab algn="l" pos="4608360"/>
                  <a:tab algn="l" pos="5121360"/>
                  <a:tab algn="l" pos="5634000"/>
                  <a:tab algn="l" pos="6145200"/>
                  <a:tab algn="l" pos="6657840"/>
                  <a:tab algn="l" pos="7170840"/>
                  <a:tab algn="l" pos="7683480"/>
                  <a:tab algn="l" pos="8196120"/>
                  <a:tab algn="l" pos="8707320"/>
                  <a:tab algn="l" pos="9220320"/>
                  <a:tab algn="l" pos="9732960"/>
                  <a:tab algn="l" pos="10245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509760"/>
                  <a:tab algn="l" pos="1022400"/>
                  <a:tab algn="l" pos="1535040"/>
                  <a:tab algn="l" pos="2046240"/>
                  <a:tab algn="l" pos="2558880"/>
                  <a:tab algn="l" pos="3071880"/>
                  <a:tab algn="l" pos="3584520"/>
                  <a:tab algn="l" pos="4095720"/>
                  <a:tab algn="l" pos="4608360"/>
                  <a:tab algn="l" pos="5121360"/>
                  <a:tab algn="l" pos="5634000"/>
                  <a:tab algn="l" pos="6145200"/>
                  <a:tab algn="l" pos="6657840"/>
                  <a:tab algn="l" pos="7170840"/>
                  <a:tab algn="l" pos="7683480"/>
                  <a:tab algn="l" pos="8196120"/>
                  <a:tab algn="l" pos="8707320"/>
                  <a:tab algn="l" pos="9220320"/>
                  <a:tab algn="l" pos="9732960"/>
                  <a:tab algn="l" pos="102456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O/TC 2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Group 14"/>
          <p:cNvGrpSpPr/>
          <p:nvPr/>
        </p:nvGrpSpPr>
        <p:grpSpPr>
          <a:xfrm>
            <a:off x="9018720" y="5592600"/>
            <a:ext cx="1503000" cy="1103040"/>
            <a:chOff x="9018720" y="5592600"/>
            <a:chExt cx="1503000" cy="1103040"/>
          </a:xfrm>
        </p:grpSpPr>
        <p:sp>
          <p:nvSpPr>
            <p:cNvPr id="354" name="Rectangle 15"/>
            <p:cNvSpPr/>
            <p:nvPr/>
          </p:nvSpPr>
          <p:spPr>
            <a:xfrm>
              <a:off x="9018720" y="5592600"/>
              <a:ext cx="1503000" cy="1103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 Box 16"/>
            <p:cNvSpPr/>
            <p:nvPr/>
          </p:nvSpPr>
          <p:spPr>
            <a:xfrm>
              <a:off x="9176400" y="572184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509760"/>
                  <a:tab algn="l" pos="1022400"/>
                  <a:tab algn="l" pos="1535040"/>
                  <a:tab algn="l" pos="2046240"/>
                  <a:tab algn="l" pos="2558880"/>
                  <a:tab algn="l" pos="3071880"/>
                  <a:tab algn="l" pos="3584520"/>
                  <a:tab algn="l" pos="4095720"/>
                  <a:tab algn="l" pos="4608360"/>
                  <a:tab algn="l" pos="5121360"/>
                  <a:tab algn="l" pos="5634000"/>
                  <a:tab algn="l" pos="6145200"/>
                  <a:tab algn="l" pos="6657840"/>
                  <a:tab algn="l" pos="7170840"/>
                  <a:tab algn="l" pos="7683480"/>
                  <a:tab algn="l" pos="8196120"/>
                  <a:tab algn="l" pos="8707320"/>
                  <a:tab algn="l" pos="9220320"/>
                  <a:tab algn="l" pos="9732960"/>
                  <a:tab algn="l" pos="102456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U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AutoShape 17"/>
          <p:cNvSpPr/>
          <p:nvPr/>
        </p:nvSpPr>
        <p:spPr>
          <a:xfrm rot="2460000">
            <a:off x="9140400" y="6188040"/>
            <a:ext cx="335160" cy="473040"/>
          </a:xfrm>
          <a:prstGeom prst="downArrow">
            <a:avLst>
              <a:gd name="adj1" fmla="val 50000"/>
              <a:gd name="adj2" fmla="val 49869"/>
            </a:avLst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18"/>
          <p:cNvSpPr/>
          <p:nvPr/>
        </p:nvSpPr>
        <p:spPr>
          <a:xfrm rot="19020000">
            <a:off x="10061280" y="6187680"/>
            <a:ext cx="333360" cy="473040"/>
          </a:xfrm>
          <a:prstGeom prst="downArrow">
            <a:avLst>
              <a:gd name="adj1" fmla="val 50000"/>
              <a:gd name="adj2" fmla="val 50138"/>
            </a:avLst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Group 19"/>
          <p:cNvGrpSpPr/>
          <p:nvPr/>
        </p:nvGrpSpPr>
        <p:grpSpPr>
          <a:xfrm>
            <a:off x="9018720" y="6775560"/>
            <a:ext cx="1503000" cy="550440"/>
            <a:chOff x="9018720" y="6775560"/>
            <a:chExt cx="1503000" cy="550440"/>
          </a:xfrm>
        </p:grpSpPr>
        <p:sp>
          <p:nvSpPr>
            <p:cNvPr id="359" name="Rectangle 20"/>
            <p:cNvSpPr/>
            <p:nvPr/>
          </p:nvSpPr>
          <p:spPr>
            <a:xfrm>
              <a:off x="9018720" y="6775560"/>
              <a:ext cx="1503000" cy="550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21"/>
            <p:cNvSpPr/>
            <p:nvPr/>
          </p:nvSpPr>
          <p:spPr>
            <a:xfrm>
              <a:off x="9185760" y="685404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509760"/>
                  <a:tab algn="l" pos="1022400"/>
                  <a:tab algn="l" pos="1535040"/>
                  <a:tab algn="l" pos="2046240"/>
                  <a:tab algn="l" pos="2558880"/>
                  <a:tab algn="l" pos="3071880"/>
                  <a:tab algn="l" pos="3584520"/>
                  <a:tab algn="l" pos="4095720"/>
                  <a:tab algn="l" pos="4608360"/>
                  <a:tab algn="l" pos="5121360"/>
                  <a:tab algn="l" pos="5634000"/>
                  <a:tab algn="l" pos="6145200"/>
                  <a:tab algn="l" pos="6657840"/>
                  <a:tab algn="l" pos="7170840"/>
                  <a:tab algn="l" pos="7683480"/>
                  <a:tab algn="l" pos="8196120"/>
                  <a:tab algn="l" pos="8707320"/>
                  <a:tab algn="l" pos="9220320"/>
                  <a:tab algn="l" pos="9732960"/>
                  <a:tab algn="l" pos="102456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bXM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Rectangle 22"/>
          <p:cNvSpPr/>
          <p:nvPr/>
        </p:nvSpPr>
        <p:spPr>
          <a:xfrm>
            <a:off x="7765920" y="4488120"/>
            <a:ext cx="2160720" cy="32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3280" bIns="53280" anchor="ctr">
            <a:spAutoFit/>
          </a:bodyPr>
          <a:p>
            <a:pPr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Standaard famil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Group 23"/>
          <p:cNvGrpSpPr/>
          <p:nvPr/>
        </p:nvGrpSpPr>
        <p:grpSpPr>
          <a:xfrm>
            <a:off x="7264440" y="4884840"/>
            <a:ext cx="1601280" cy="1260000"/>
            <a:chOff x="7264440" y="4884840"/>
            <a:chExt cx="1601280" cy="1260000"/>
          </a:xfrm>
        </p:grpSpPr>
        <p:sp>
          <p:nvSpPr>
            <p:cNvPr id="363" name="Rectangle 24"/>
            <p:cNvSpPr/>
            <p:nvPr/>
          </p:nvSpPr>
          <p:spPr>
            <a:xfrm>
              <a:off x="7264440" y="4884840"/>
              <a:ext cx="1503360" cy="1260000"/>
            </a:xfrm>
            <a:prstGeom prst="rect">
              <a:avLst/>
            </a:prstGeom>
            <a:solidFill>
              <a:srgbClr val="00b0f0">
                <a:alpha val="80000"/>
              </a:srgbClr>
            </a:solidFill>
            <a:ln w="255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Text Box 25"/>
            <p:cNvSpPr/>
            <p:nvPr/>
          </p:nvSpPr>
          <p:spPr>
            <a:xfrm>
              <a:off x="7366680" y="5278320"/>
              <a:ext cx="1499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509760"/>
                  <a:tab algn="l" pos="1022400"/>
                  <a:tab algn="l" pos="1535040"/>
                  <a:tab algn="l" pos="2046240"/>
                  <a:tab algn="l" pos="2558880"/>
                  <a:tab algn="l" pos="3071880"/>
                  <a:tab algn="l" pos="3584520"/>
                  <a:tab algn="l" pos="4095720"/>
                  <a:tab algn="l" pos="4608360"/>
                  <a:tab algn="l" pos="5121360"/>
                  <a:tab algn="l" pos="5634000"/>
                  <a:tab algn="l" pos="6145200"/>
                  <a:tab algn="l" pos="6657840"/>
                  <a:tab algn="l" pos="7170840"/>
                  <a:tab algn="l" pos="7683480"/>
                  <a:tab algn="l" pos="8196120"/>
                  <a:tab algn="l" pos="8707320"/>
                  <a:tab algn="l" pos="9220320"/>
                  <a:tab algn="l" pos="9732960"/>
                  <a:tab algn="l" pos="102456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Arial"/>
                </a:rPr>
                <a:t>NEN36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Group 26"/>
          <p:cNvGrpSpPr/>
          <p:nvPr/>
        </p:nvGrpSpPr>
        <p:grpSpPr>
          <a:xfrm>
            <a:off x="9018720" y="6145200"/>
            <a:ext cx="1503000" cy="1180800"/>
            <a:chOff x="9018720" y="6145200"/>
            <a:chExt cx="1503000" cy="1180800"/>
          </a:xfrm>
        </p:grpSpPr>
        <p:sp>
          <p:nvSpPr>
            <p:cNvPr id="366" name="Rectangle 27"/>
            <p:cNvSpPr/>
            <p:nvPr/>
          </p:nvSpPr>
          <p:spPr>
            <a:xfrm>
              <a:off x="9018720" y="6145200"/>
              <a:ext cx="1503000" cy="1180800"/>
            </a:xfrm>
            <a:prstGeom prst="rect">
              <a:avLst/>
            </a:prstGeom>
            <a:solidFill>
              <a:srgbClr val="ffff00">
                <a:alpha val="80000"/>
              </a:srgbClr>
            </a:solidFill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Text Box 28"/>
            <p:cNvSpPr/>
            <p:nvPr/>
          </p:nvSpPr>
          <p:spPr>
            <a:xfrm>
              <a:off x="9359640" y="6460200"/>
              <a:ext cx="87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509760"/>
                  <a:tab algn="l" pos="1022400"/>
                  <a:tab algn="l" pos="1535040"/>
                  <a:tab algn="l" pos="2046240"/>
                  <a:tab algn="l" pos="2558880"/>
                  <a:tab algn="l" pos="3071880"/>
                  <a:tab algn="l" pos="3584520"/>
                  <a:tab algn="l" pos="4095720"/>
                  <a:tab algn="l" pos="4608360"/>
                  <a:tab algn="l" pos="5121360"/>
                  <a:tab algn="l" pos="5634000"/>
                  <a:tab algn="l" pos="6145200"/>
                  <a:tab algn="l" pos="6657840"/>
                  <a:tab algn="l" pos="7170840"/>
                  <a:tab algn="l" pos="7683480"/>
                  <a:tab algn="l" pos="8196120"/>
                  <a:tab algn="l" pos="8707320"/>
                  <a:tab algn="l" pos="9220320"/>
                  <a:tab algn="l" pos="9732960"/>
                  <a:tab algn="l" pos="102456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Arial"/>
                </a:rPr>
                <a:t>StU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Group 29"/>
          <p:cNvGrpSpPr/>
          <p:nvPr/>
        </p:nvGrpSpPr>
        <p:grpSpPr>
          <a:xfrm>
            <a:off x="7264440" y="6145200"/>
            <a:ext cx="1501200" cy="391680"/>
            <a:chOff x="7264440" y="6145200"/>
            <a:chExt cx="1501200" cy="391680"/>
          </a:xfrm>
        </p:grpSpPr>
        <p:sp>
          <p:nvSpPr>
            <p:cNvPr id="369" name="Rectangle 30"/>
            <p:cNvSpPr/>
            <p:nvPr/>
          </p:nvSpPr>
          <p:spPr>
            <a:xfrm>
              <a:off x="7264440" y="6145200"/>
              <a:ext cx="1501200" cy="391680"/>
            </a:xfrm>
            <a:prstGeom prst="rect">
              <a:avLst/>
            </a:prstGeom>
            <a:solidFill>
              <a:srgbClr val="00b0f0">
                <a:alpha val="30000"/>
              </a:srgbClr>
            </a:solidFill>
            <a:ln w="255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Text Box 31"/>
            <p:cNvSpPr/>
            <p:nvPr/>
          </p:nvSpPr>
          <p:spPr>
            <a:xfrm>
              <a:off x="7905600" y="6267240"/>
              <a:ext cx="214560" cy="11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Rectangle 32"/>
          <p:cNvSpPr/>
          <p:nvPr/>
        </p:nvSpPr>
        <p:spPr>
          <a:xfrm>
            <a:off x="9018720" y="5564880"/>
            <a:ext cx="1468440" cy="838440"/>
          </a:xfrm>
          <a:prstGeom prst="rect">
            <a:avLst/>
          </a:prstGeom>
          <a:solidFill>
            <a:srgbClr val="ffff00">
              <a:alpha val="30000"/>
            </a:srgbClr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3280" bIns="53280" anchor="ctr">
            <a:spAutoFit/>
          </a:bodyPr>
          <a:p>
            <a:pPr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33"/>
          <p:cNvSpPr/>
          <p:nvPr/>
        </p:nvSpPr>
        <p:spPr>
          <a:xfrm>
            <a:off x="2486160" y="2352600"/>
            <a:ext cx="7881840" cy="151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3280" bIns="53280" anchor="t">
            <a:noAutofit/>
          </a:bodyPr>
          <a:p>
            <a:pPr marL="584280" indent="-584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85720"/>
                <a:tab algn="l" pos="1096920"/>
                <a:tab algn="l" pos="1608120"/>
                <a:tab algn="l" pos="2120760"/>
                <a:tab algn="l" pos="2633760"/>
                <a:tab algn="l" pos="3146400"/>
                <a:tab algn="l" pos="3657600"/>
                <a:tab algn="l" pos="4170240"/>
                <a:tab algn="l" pos="4683240"/>
                <a:tab algn="l" pos="5195880"/>
                <a:tab algn="l" pos="5707080"/>
                <a:tab algn="l" pos="6219720"/>
                <a:tab algn="l" pos="6732720"/>
                <a:tab algn="l" pos="7245360"/>
                <a:tab algn="l" pos="7758000"/>
                <a:tab algn="l" pos="8269200"/>
                <a:tab algn="l" pos="8782200"/>
                <a:tab algn="l" pos="9294840"/>
                <a:tab algn="l" pos="9807480"/>
                <a:tab algn="l" pos="10318680"/>
                <a:tab algn="l" pos="108316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Onderverdeling functionaliteit 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4280" indent="-584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585720"/>
                <a:tab algn="l" pos="1096920"/>
                <a:tab algn="l" pos="1608120"/>
                <a:tab algn="l" pos="2120760"/>
                <a:tab algn="l" pos="2633760"/>
                <a:tab algn="l" pos="3146400"/>
                <a:tab algn="l" pos="3657600"/>
                <a:tab algn="l" pos="4170240"/>
                <a:tab algn="l" pos="4683240"/>
                <a:tab algn="l" pos="5195880"/>
                <a:tab algn="l" pos="5707080"/>
                <a:tab algn="l" pos="6219720"/>
                <a:tab algn="l" pos="6732720"/>
                <a:tab algn="l" pos="7245360"/>
                <a:tab algn="l" pos="7758000"/>
                <a:tab algn="l" pos="8269200"/>
                <a:tab algn="l" pos="8782200"/>
                <a:tab algn="l" pos="9294840"/>
                <a:tab algn="l" pos="9807480"/>
                <a:tab algn="l" pos="10318680"/>
                <a:tab algn="l" pos="1083168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StUF, wijzigingen, asynchroon en bevragingen waar geometrie geen rol spee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4280" indent="-584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585720"/>
                <a:tab algn="l" pos="1096920"/>
                <a:tab algn="l" pos="1608120"/>
                <a:tab algn="l" pos="2120760"/>
                <a:tab algn="l" pos="2633760"/>
                <a:tab algn="l" pos="3146400"/>
                <a:tab algn="l" pos="3657600"/>
                <a:tab algn="l" pos="4170240"/>
                <a:tab algn="l" pos="4683240"/>
                <a:tab algn="l" pos="5195880"/>
                <a:tab algn="l" pos="5707080"/>
                <a:tab algn="l" pos="6219720"/>
                <a:tab algn="l" pos="6732720"/>
                <a:tab algn="l" pos="7245360"/>
                <a:tab algn="l" pos="7758000"/>
                <a:tab algn="l" pos="8269200"/>
                <a:tab algn="l" pos="8782200"/>
                <a:tab algn="l" pos="9294840"/>
                <a:tab algn="l" pos="9807480"/>
                <a:tab algn="l" pos="10318680"/>
                <a:tab algn="l" pos="1083168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WMS, WFS en GML voor bevraging waar geometrie een rol spee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4280" indent="-584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85720"/>
                <a:tab algn="l" pos="1096920"/>
                <a:tab algn="l" pos="1608120"/>
                <a:tab algn="l" pos="2120760"/>
                <a:tab algn="l" pos="2633760"/>
                <a:tab algn="l" pos="3146400"/>
                <a:tab algn="l" pos="3657600"/>
                <a:tab algn="l" pos="4170240"/>
                <a:tab algn="l" pos="4683240"/>
                <a:tab algn="l" pos="5195880"/>
                <a:tab algn="l" pos="5707080"/>
                <a:tab algn="l" pos="6219720"/>
                <a:tab algn="l" pos="6732720"/>
                <a:tab algn="l" pos="7245360"/>
                <a:tab algn="l" pos="7758000"/>
                <a:tab algn="l" pos="8269200"/>
                <a:tab algn="l" pos="8782200"/>
                <a:tab algn="l" pos="9294840"/>
                <a:tab algn="l" pos="9807480"/>
                <a:tab algn="l" pos="10318680"/>
                <a:tab algn="l" pos="10831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5" descr=""/>
          <p:cNvPicPr/>
          <p:nvPr/>
        </p:nvPicPr>
        <p:blipFill>
          <a:blip r:embed="rId2"/>
          <a:stretch/>
        </p:blipFill>
        <p:spPr>
          <a:xfrm>
            <a:off x="8831160" y="0"/>
            <a:ext cx="1857600" cy="89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1"/>
          <p:cNvSpPr/>
          <p:nvPr/>
        </p:nvSpPr>
        <p:spPr>
          <a:xfrm>
            <a:off x="0" y="922320"/>
            <a:ext cx="10688760" cy="664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2"/>
          <p:cNvSpPr/>
          <p:nvPr/>
        </p:nvSpPr>
        <p:spPr>
          <a:xfrm>
            <a:off x="2557440" y="-147600"/>
            <a:ext cx="8955000" cy="11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3280" bIns="53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Huidige situatie: twee families </a:t>
            </a:r>
            <a:br>
              <a:rPr sz="2400"/>
            </a:b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die elkaar sinds kort ken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3" descr=""/>
          <p:cNvPicPr/>
          <p:nvPr/>
        </p:nvPicPr>
        <p:blipFill>
          <a:blip r:embed="rId1"/>
          <a:stretch/>
        </p:blipFill>
        <p:spPr>
          <a:xfrm>
            <a:off x="0" y="1398600"/>
            <a:ext cx="8205840" cy="590400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5" descr=""/>
          <p:cNvPicPr/>
          <p:nvPr/>
        </p:nvPicPr>
        <p:blipFill>
          <a:blip r:embed="rId2"/>
          <a:stretch/>
        </p:blipFill>
        <p:spPr>
          <a:xfrm>
            <a:off x="8831160" y="0"/>
            <a:ext cx="1857600" cy="89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1"/>
          <p:cNvSpPr/>
          <p:nvPr/>
        </p:nvSpPr>
        <p:spPr>
          <a:xfrm>
            <a:off x="0" y="1709640"/>
            <a:ext cx="7785000" cy="585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2"/>
          <p:cNvSpPr/>
          <p:nvPr/>
        </p:nvSpPr>
        <p:spPr>
          <a:xfrm>
            <a:off x="2486160" y="138240"/>
            <a:ext cx="5805360" cy="14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3280" bIns="53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Plateau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5" descr=""/>
          <p:cNvPicPr/>
          <p:nvPr/>
        </p:nvPicPr>
        <p:blipFill>
          <a:blip r:embed="rId1"/>
          <a:stretch/>
        </p:blipFill>
        <p:spPr>
          <a:xfrm>
            <a:off x="0" y="2014560"/>
            <a:ext cx="7711920" cy="5548320"/>
          </a:xfrm>
          <a:prstGeom prst="rect">
            <a:avLst/>
          </a:prstGeom>
          <a:ln w="0">
            <a:noFill/>
          </a:ln>
        </p:spPr>
      </p:pic>
      <p:sp>
        <p:nvSpPr>
          <p:cNvPr id="381" name="Ovaal 6"/>
          <p:cNvSpPr/>
          <p:nvPr/>
        </p:nvSpPr>
        <p:spPr>
          <a:xfrm>
            <a:off x="3340080" y="2363760"/>
            <a:ext cx="2338560" cy="189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Ovaal 7"/>
          <p:cNvSpPr/>
          <p:nvPr/>
        </p:nvSpPr>
        <p:spPr>
          <a:xfrm>
            <a:off x="3173400" y="5514840"/>
            <a:ext cx="2922480" cy="1575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5" descr=""/>
          <p:cNvPicPr/>
          <p:nvPr/>
        </p:nvPicPr>
        <p:blipFill>
          <a:blip r:embed="rId2"/>
          <a:stretch/>
        </p:blipFill>
        <p:spPr>
          <a:xfrm>
            <a:off x="8831160" y="0"/>
            <a:ext cx="1857600" cy="89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1"/>
          <p:cNvSpPr/>
          <p:nvPr/>
        </p:nvSpPr>
        <p:spPr>
          <a:xfrm>
            <a:off x="2486160" y="2066760"/>
            <a:ext cx="7762680" cy="151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3280" bIns="53280" anchor="t">
            <a:noAutofit/>
          </a:bodyPr>
          <a:p>
            <a:pPr marL="388800" indent="-388800">
              <a:lnSpc>
                <a:spcPct val="100000"/>
              </a:lnSpc>
              <a:spcBef>
                <a:spcPts val="224"/>
              </a:spcBef>
              <a:buClr>
                <a:srgbClr val="ffffff"/>
              </a:buClr>
              <a:buFont typeface="Times New Roman"/>
              <a:buChar char="•"/>
              <a:tabLst>
                <a:tab algn="l" pos="388800"/>
                <a:tab algn="l" pos="507960"/>
                <a:tab algn="l" pos="1020600"/>
                <a:tab algn="l" pos="1533600"/>
                <a:tab algn="l" pos="2044800"/>
                <a:tab algn="l" pos="2557440"/>
                <a:tab algn="l" pos="3070080"/>
                <a:tab algn="l" pos="3583080"/>
                <a:tab algn="l" pos="4094280"/>
                <a:tab algn="l" pos="4606920"/>
                <a:tab algn="l" pos="5119560"/>
                <a:tab algn="l" pos="5632560"/>
                <a:tab algn="l" pos="6143760"/>
                <a:tab algn="l" pos="6656400"/>
                <a:tab algn="l" pos="7169040"/>
                <a:tab algn="l" pos="7682040"/>
                <a:tab algn="l" pos="8193240"/>
                <a:tab algn="l" pos="8705880"/>
                <a:tab algn="l" pos="9218520"/>
                <a:tab algn="l" pos="9731520"/>
                <a:tab algn="l" pos="1024272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Review/QA  (extern)  op 3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lnSpc>
                <a:spcPct val="100000"/>
              </a:lnSpc>
              <a:spcBef>
                <a:spcPts val="224"/>
              </a:spcBef>
              <a:buClr>
                <a:srgbClr val="ffffff"/>
              </a:buClr>
              <a:buFont typeface="Times New Roman"/>
              <a:buChar char="•"/>
              <a:tabLst>
                <a:tab algn="l" pos="388800"/>
                <a:tab algn="l" pos="507960"/>
                <a:tab algn="l" pos="1020600"/>
                <a:tab algn="l" pos="1533600"/>
                <a:tab algn="l" pos="2044800"/>
                <a:tab algn="l" pos="2557440"/>
                <a:tab algn="l" pos="3070080"/>
                <a:tab algn="l" pos="3583080"/>
                <a:tab algn="l" pos="4094280"/>
                <a:tab algn="l" pos="4606920"/>
                <a:tab algn="l" pos="5119560"/>
                <a:tab algn="l" pos="5632560"/>
                <a:tab algn="l" pos="6143760"/>
                <a:tab algn="l" pos="6656400"/>
                <a:tab algn="l" pos="7169040"/>
                <a:tab algn="l" pos="7682040"/>
                <a:tab algn="l" pos="8193240"/>
                <a:tab algn="l" pos="8705880"/>
                <a:tab algn="l" pos="9218520"/>
                <a:tab algn="l" pos="9731520"/>
                <a:tab algn="l" pos="1024272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Inbrengen harmonisatie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4560" indent="-324000">
              <a:lnSpc>
                <a:spcPct val="100000"/>
              </a:lnSpc>
              <a:spcBef>
                <a:spcPts val="224"/>
              </a:spcBef>
              <a:buClr>
                <a:srgbClr val="ffffff"/>
              </a:buClr>
              <a:buFont typeface="Times New Roman"/>
              <a:buChar char="–"/>
              <a:tabLst>
                <a:tab algn="l" pos="388800"/>
                <a:tab algn="l" pos="507960"/>
                <a:tab algn="l" pos="1020600"/>
                <a:tab algn="l" pos="1533600"/>
                <a:tab algn="l" pos="2044800"/>
                <a:tab algn="l" pos="2557440"/>
                <a:tab algn="l" pos="3070080"/>
                <a:tab algn="l" pos="3583080"/>
                <a:tab algn="l" pos="4094280"/>
                <a:tab algn="l" pos="4606920"/>
                <a:tab algn="l" pos="5119560"/>
                <a:tab algn="l" pos="5632560"/>
                <a:tab algn="l" pos="6143760"/>
                <a:tab algn="l" pos="6656400"/>
                <a:tab algn="l" pos="7169040"/>
                <a:tab algn="l" pos="7682040"/>
                <a:tab algn="l" pos="8193240"/>
                <a:tab algn="l" pos="8705880"/>
                <a:tab algn="l" pos="9218520"/>
                <a:tab algn="l" pos="9731520"/>
                <a:tab algn="l" pos="1024272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NEN3610 stelseloverle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4560" indent="-324000">
              <a:lnSpc>
                <a:spcPct val="100000"/>
              </a:lnSpc>
              <a:spcBef>
                <a:spcPts val="224"/>
              </a:spcBef>
              <a:buClr>
                <a:srgbClr val="ffffff"/>
              </a:buClr>
              <a:buFont typeface="Times New Roman"/>
              <a:buChar char="–"/>
              <a:tabLst>
                <a:tab algn="l" pos="388800"/>
                <a:tab algn="l" pos="507960"/>
                <a:tab algn="l" pos="1020600"/>
                <a:tab algn="l" pos="1533600"/>
                <a:tab algn="l" pos="2044800"/>
                <a:tab algn="l" pos="2557440"/>
                <a:tab algn="l" pos="3070080"/>
                <a:tab algn="l" pos="3583080"/>
                <a:tab algn="l" pos="4094280"/>
                <a:tab algn="l" pos="4606920"/>
                <a:tab algn="l" pos="5119560"/>
                <a:tab algn="l" pos="5632560"/>
                <a:tab algn="l" pos="6143760"/>
                <a:tab algn="l" pos="6656400"/>
                <a:tab algn="l" pos="7169040"/>
                <a:tab algn="l" pos="7682040"/>
                <a:tab algn="l" pos="8193240"/>
                <a:tab algn="l" pos="8705880"/>
                <a:tab algn="l" pos="9218520"/>
                <a:tab algn="l" pos="9731520"/>
                <a:tab algn="l" pos="1024272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Forum en College Standaardisa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4560" indent="-324000">
              <a:lnSpc>
                <a:spcPct val="100000"/>
              </a:lnSpc>
              <a:spcBef>
                <a:spcPts val="224"/>
              </a:spcBef>
              <a:buClr>
                <a:srgbClr val="ffffff"/>
              </a:buClr>
              <a:buFont typeface="Times New Roman"/>
              <a:buChar char="–"/>
              <a:tabLst>
                <a:tab algn="l" pos="388800"/>
                <a:tab algn="l" pos="507960"/>
                <a:tab algn="l" pos="1020600"/>
                <a:tab algn="l" pos="1533600"/>
                <a:tab algn="l" pos="2044800"/>
                <a:tab algn="l" pos="2557440"/>
                <a:tab algn="l" pos="3070080"/>
                <a:tab algn="l" pos="3583080"/>
                <a:tab algn="l" pos="4094280"/>
                <a:tab algn="l" pos="4606920"/>
                <a:tab algn="l" pos="5119560"/>
                <a:tab algn="l" pos="5632560"/>
                <a:tab algn="l" pos="6143760"/>
                <a:tab algn="l" pos="6656400"/>
                <a:tab algn="l" pos="7169040"/>
                <a:tab algn="l" pos="7682040"/>
                <a:tab algn="l" pos="8193240"/>
                <a:tab algn="l" pos="8705880"/>
                <a:tab algn="l" pos="9218520"/>
                <a:tab algn="l" pos="9731520"/>
                <a:tab algn="l" pos="1024272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StUF Expert en Regiegro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4560" indent="-324000">
              <a:lnSpc>
                <a:spcPct val="100000"/>
              </a:lnSpc>
              <a:spcBef>
                <a:spcPts val="224"/>
              </a:spcBef>
              <a:buClr>
                <a:srgbClr val="ffffff"/>
              </a:buClr>
              <a:buFont typeface="Times New Roman"/>
              <a:buChar char="–"/>
              <a:tabLst>
                <a:tab algn="l" pos="388800"/>
                <a:tab algn="l" pos="507960"/>
                <a:tab algn="l" pos="1020600"/>
                <a:tab algn="l" pos="1533600"/>
                <a:tab algn="l" pos="2044800"/>
                <a:tab algn="l" pos="2557440"/>
                <a:tab algn="l" pos="3070080"/>
                <a:tab algn="l" pos="3583080"/>
                <a:tab algn="l" pos="4094280"/>
                <a:tab algn="l" pos="4606920"/>
                <a:tab algn="l" pos="5119560"/>
                <a:tab algn="l" pos="5632560"/>
                <a:tab algn="l" pos="6143760"/>
                <a:tab algn="l" pos="6656400"/>
                <a:tab algn="l" pos="7169040"/>
                <a:tab algn="l" pos="7682040"/>
                <a:tab algn="l" pos="8193240"/>
                <a:tab algn="l" pos="8705880"/>
                <a:tab algn="l" pos="9218520"/>
                <a:tab algn="l" pos="9731520"/>
                <a:tab algn="l" pos="1024272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Stelseloverleg BR’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4560" indent="-324000">
              <a:lnSpc>
                <a:spcPct val="100000"/>
              </a:lnSpc>
              <a:spcBef>
                <a:spcPts val="224"/>
              </a:spcBef>
              <a:buClr>
                <a:srgbClr val="ffffff"/>
              </a:buClr>
              <a:buFont typeface="Times New Roman"/>
              <a:buChar char="–"/>
              <a:tabLst>
                <a:tab algn="l" pos="388800"/>
                <a:tab algn="l" pos="507960"/>
                <a:tab algn="l" pos="1020600"/>
                <a:tab algn="l" pos="1533600"/>
                <a:tab algn="l" pos="2044800"/>
                <a:tab algn="l" pos="2557440"/>
                <a:tab algn="l" pos="3070080"/>
                <a:tab algn="l" pos="3583080"/>
                <a:tab algn="l" pos="4094280"/>
                <a:tab algn="l" pos="4606920"/>
                <a:tab algn="l" pos="5119560"/>
                <a:tab algn="l" pos="5632560"/>
                <a:tab algn="l" pos="6143760"/>
                <a:tab algn="l" pos="6656400"/>
                <a:tab algn="l" pos="7169040"/>
                <a:tab algn="l" pos="7682040"/>
                <a:tab algn="l" pos="8193240"/>
                <a:tab algn="l" pos="8705880"/>
                <a:tab algn="l" pos="9218520"/>
                <a:tab algn="l" pos="9731520"/>
                <a:tab algn="l" pos="1024272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Expertgroep Stelselstandaa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4560" indent="-324000">
              <a:lnSpc>
                <a:spcPct val="100000"/>
              </a:lnSpc>
              <a:spcBef>
                <a:spcPts val="224"/>
              </a:spcBef>
              <a:buClr>
                <a:srgbClr val="ffffff"/>
              </a:buClr>
              <a:buFont typeface="Times New Roman"/>
              <a:buChar char="–"/>
              <a:tabLst>
                <a:tab algn="l" pos="388800"/>
                <a:tab algn="l" pos="507960"/>
                <a:tab algn="l" pos="1020600"/>
                <a:tab algn="l" pos="1533600"/>
                <a:tab algn="l" pos="2044800"/>
                <a:tab algn="l" pos="2557440"/>
                <a:tab algn="l" pos="3070080"/>
                <a:tab algn="l" pos="3583080"/>
                <a:tab algn="l" pos="4094280"/>
                <a:tab algn="l" pos="4606920"/>
                <a:tab algn="l" pos="5119560"/>
                <a:tab algn="l" pos="5632560"/>
                <a:tab algn="l" pos="6143760"/>
                <a:tab algn="l" pos="6656400"/>
                <a:tab algn="l" pos="7169040"/>
                <a:tab algn="l" pos="7682040"/>
                <a:tab algn="l" pos="8193240"/>
                <a:tab algn="l" pos="8705880"/>
                <a:tab algn="l" pos="9218520"/>
                <a:tab algn="l" pos="9731520"/>
                <a:tab algn="l" pos="1024272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Of bijvoorbeeld vanda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lnSpc>
                <a:spcPct val="100000"/>
              </a:lnSpc>
              <a:spcBef>
                <a:spcPts val="224"/>
              </a:spcBef>
              <a:buClr>
                <a:srgbClr val="ffffff"/>
              </a:buClr>
              <a:buFont typeface="Times New Roman"/>
              <a:buChar char="•"/>
              <a:tabLst>
                <a:tab algn="l" pos="388800"/>
                <a:tab algn="l" pos="507960"/>
                <a:tab algn="l" pos="1020600"/>
                <a:tab algn="l" pos="1533600"/>
                <a:tab algn="l" pos="2044800"/>
                <a:tab algn="l" pos="2557440"/>
                <a:tab algn="l" pos="3070080"/>
                <a:tab algn="l" pos="3583080"/>
                <a:tab algn="l" pos="4094280"/>
                <a:tab algn="l" pos="4606920"/>
                <a:tab algn="l" pos="5119560"/>
                <a:tab algn="l" pos="5632560"/>
                <a:tab algn="l" pos="6143760"/>
                <a:tab algn="l" pos="6656400"/>
                <a:tab algn="l" pos="7169040"/>
                <a:tab algn="l" pos="7682040"/>
                <a:tab algn="l" pos="8193240"/>
                <a:tab algn="l" pos="8705880"/>
                <a:tab algn="l" pos="9218520"/>
                <a:tab algn="l" pos="9731520"/>
                <a:tab algn="l" pos="1024272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Communicat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lnSpc>
                <a:spcPct val="100000"/>
              </a:lnSpc>
              <a:spcBef>
                <a:spcPts val="224"/>
              </a:spcBef>
              <a:buClr>
                <a:srgbClr val="ffffff"/>
              </a:buClr>
              <a:buFont typeface="Times New Roman"/>
              <a:buChar char="•"/>
              <a:tabLst>
                <a:tab algn="l" pos="388800"/>
                <a:tab algn="l" pos="507960"/>
                <a:tab algn="l" pos="1020600"/>
                <a:tab algn="l" pos="1533600"/>
                <a:tab algn="l" pos="2044800"/>
                <a:tab algn="l" pos="2557440"/>
                <a:tab algn="l" pos="3070080"/>
                <a:tab algn="l" pos="3583080"/>
                <a:tab algn="l" pos="4094280"/>
                <a:tab algn="l" pos="4606920"/>
                <a:tab algn="l" pos="5119560"/>
                <a:tab algn="l" pos="5632560"/>
                <a:tab algn="l" pos="6143760"/>
                <a:tab algn="l" pos="6656400"/>
                <a:tab algn="l" pos="7169040"/>
                <a:tab algn="l" pos="7682040"/>
                <a:tab algn="l" pos="8193240"/>
                <a:tab algn="l" pos="8705880"/>
                <a:tab algn="l" pos="9218520"/>
                <a:tab algn="l" pos="9731520"/>
                <a:tab algn="l" pos="1024272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Financiering/conditionering vervol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lnSpc>
                <a:spcPct val="100000"/>
              </a:lnSpc>
              <a:spcBef>
                <a:spcPts val="224"/>
              </a:spcBef>
              <a:buClr>
                <a:srgbClr val="ffffff"/>
              </a:buClr>
              <a:buFont typeface="Times New Roman"/>
              <a:buChar char="•"/>
              <a:tabLst>
                <a:tab algn="l" pos="388800"/>
                <a:tab algn="l" pos="507960"/>
                <a:tab algn="l" pos="1020600"/>
                <a:tab algn="l" pos="1533600"/>
                <a:tab algn="l" pos="2044800"/>
                <a:tab algn="l" pos="2557440"/>
                <a:tab algn="l" pos="3070080"/>
                <a:tab algn="l" pos="3583080"/>
                <a:tab algn="l" pos="4094280"/>
                <a:tab algn="l" pos="4606920"/>
                <a:tab algn="l" pos="5119560"/>
                <a:tab algn="l" pos="5632560"/>
                <a:tab algn="l" pos="6143760"/>
                <a:tab algn="l" pos="6656400"/>
                <a:tab algn="l" pos="7169040"/>
                <a:tab algn="l" pos="7682040"/>
                <a:tab algn="l" pos="8193240"/>
                <a:tab algn="l" pos="8705880"/>
                <a:tab algn="l" pos="9218520"/>
                <a:tab algn="l" pos="9731520"/>
                <a:tab algn="l" pos="1024272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Tekenen Samenwerkingsovereenkom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lnSpc>
                <a:spcPct val="100000"/>
              </a:lnSpc>
              <a:spcBef>
                <a:spcPts val="224"/>
              </a:spcBef>
              <a:buClr>
                <a:srgbClr val="ffffff"/>
              </a:buClr>
              <a:buFont typeface="Times New Roman"/>
              <a:buChar char="•"/>
              <a:tabLst>
                <a:tab algn="l" pos="388800"/>
                <a:tab algn="l" pos="507960"/>
                <a:tab algn="l" pos="1020600"/>
                <a:tab algn="l" pos="1533600"/>
                <a:tab algn="l" pos="2044800"/>
                <a:tab algn="l" pos="2557440"/>
                <a:tab algn="l" pos="3070080"/>
                <a:tab algn="l" pos="3583080"/>
                <a:tab algn="l" pos="4094280"/>
                <a:tab algn="l" pos="4606920"/>
                <a:tab algn="l" pos="5119560"/>
                <a:tab algn="l" pos="5632560"/>
                <a:tab algn="l" pos="6143760"/>
                <a:tab algn="l" pos="6656400"/>
                <a:tab algn="l" pos="7169040"/>
                <a:tab algn="l" pos="7682040"/>
                <a:tab algn="l" pos="8193240"/>
                <a:tab algn="l" pos="8705880"/>
                <a:tab algn="l" pos="9218520"/>
                <a:tab algn="l" pos="9731520"/>
                <a:tab algn="l" pos="10242720"/>
              </a:tabLst>
            </a:pPr>
            <a:r>
              <a:rPr b="0" lang="nl-NL" sz="2400" spc="-1" strike="noStrike" u="sng">
                <a:solidFill>
                  <a:srgbClr val="ffffff"/>
                </a:solidFill>
                <a:uFillTx/>
                <a:latin typeface="Verdana"/>
              </a:rPr>
              <a:t>Uitvoeringsplane en </a:t>
            </a: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“G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lnSpc>
                <a:spcPct val="100000"/>
              </a:lnSpc>
              <a:spcBef>
                <a:spcPts val="224"/>
              </a:spcBef>
              <a:buClr>
                <a:srgbClr val="ffffff"/>
              </a:buClr>
              <a:buFont typeface="Times New Roman"/>
              <a:buChar char="•"/>
              <a:tabLst>
                <a:tab algn="l" pos="388800"/>
                <a:tab algn="l" pos="507960"/>
                <a:tab algn="l" pos="1020600"/>
                <a:tab algn="l" pos="1533600"/>
                <a:tab algn="l" pos="2044800"/>
                <a:tab algn="l" pos="2557440"/>
                <a:tab algn="l" pos="3070080"/>
                <a:tab algn="l" pos="3583080"/>
                <a:tab algn="l" pos="4094280"/>
                <a:tab algn="l" pos="4606920"/>
                <a:tab algn="l" pos="5119560"/>
                <a:tab algn="l" pos="5632560"/>
                <a:tab algn="l" pos="6143760"/>
                <a:tab algn="l" pos="6656400"/>
                <a:tab algn="l" pos="7169040"/>
                <a:tab algn="l" pos="7682040"/>
                <a:tab algn="l" pos="8193240"/>
                <a:tab algn="l" pos="8705880"/>
                <a:tab algn="l" pos="9218520"/>
                <a:tab algn="l" pos="9731520"/>
                <a:tab algn="l" pos="1024272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Uitvoering binnen het normale releasebeleid van RSGB/StUF en NEN36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88800"/>
                <a:tab algn="l" pos="507960"/>
                <a:tab algn="l" pos="1020600"/>
                <a:tab algn="l" pos="1533600"/>
                <a:tab algn="l" pos="2044800"/>
                <a:tab algn="l" pos="2557440"/>
                <a:tab algn="l" pos="3070080"/>
                <a:tab algn="l" pos="3583080"/>
                <a:tab algn="l" pos="4094280"/>
                <a:tab algn="l" pos="4606920"/>
                <a:tab algn="l" pos="5119560"/>
                <a:tab algn="l" pos="5632560"/>
                <a:tab algn="l" pos="6143760"/>
                <a:tab algn="l" pos="6656400"/>
                <a:tab algn="l" pos="7169040"/>
                <a:tab algn="l" pos="7682040"/>
                <a:tab algn="l" pos="8193240"/>
                <a:tab algn="l" pos="8705880"/>
                <a:tab algn="l" pos="9218520"/>
                <a:tab algn="l" pos="9731520"/>
                <a:tab algn="l" pos="10242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2"/>
          <p:cNvSpPr/>
          <p:nvPr/>
        </p:nvSpPr>
        <p:spPr>
          <a:xfrm>
            <a:off x="2486160" y="1066680"/>
            <a:ext cx="7738920" cy="11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3280" bIns="53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Vervolg (gericht op verduurzam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5" descr=""/>
          <p:cNvPicPr/>
          <p:nvPr/>
        </p:nvPicPr>
        <p:blipFill>
          <a:blip r:embed="rId1"/>
          <a:stretch/>
        </p:blipFill>
        <p:spPr>
          <a:xfrm>
            <a:off x="8831160" y="0"/>
            <a:ext cx="1857600" cy="89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1"/>
          <p:cNvSpPr/>
          <p:nvPr/>
        </p:nvSpPr>
        <p:spPr>
          <a:xfrm>
            <a:off x="2557440" y="1241280"/>
            <a:ext cx="7691400" cy="11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3280" bIns="53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iscussie / vr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5" descr=""/>
          <p:cNvPicPr/>
          <p:nvPr/>
        </p:nvPicPr>
        <p:blipFill>
          <a:blip r:embed="rId1"/>
          <a:stretch/>
        </p:blipFill>
        <p:spPr>
          <a:xfrm>
            <a:off x="8831160" y="0"/>
            <a:ext cx="1857600" cy="89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1"/>
          <p:cNvSpPr/>
          <p:nvPr/>
        </p:nvSpPr>
        <p:spPr>
          <a:xfrm>
            <a:off x="2486160" y="1222200"/>
            <a:ext cx="777708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3280" bIns="53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Verdana"/>
              </a:rPr>
              <a:t>e-overheid vraagt om standaarden…zoals StUF en NEN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2486160" y="2495520"/>
            <a:ext cx="8202600" cy="45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3280" bIns="53280" anchor="t">
            <a:noAutofit/>
          </a:bodyPr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846000"/>
                <a:tab algn="l" pos="966960"/>
                <a:tab algn="l" pos="1477800"/>
                <a:tab algn="l" pos="1990800"/>
                <a:tab algn="l" pos="2503440"/>
                <a:tab algn="l" pos="3016080"/>
                <a:tab algn="l" pos="3527280"/>
                <a:tab algn="l" pos="4040280"/>
                <a:tab algn="l" pos="4552920"/>
                <a:tab algn="l" pos="5065560"/>
                <a:tab algn="l" pos="5576760"/>
                <a:tab algn="l" pos="6089760"/>
                <a:tab algn="l" pos="6602400"/>
                <a:tab algn="l" pos="7115040"/>
                <a:tab algn="l" pos="7626240"/>
                <a:tab algn="l" pos="8139240"/>
                <a:tab algn="l" pos="8651880"/>
                <a:tab algn="l" pos="9164520"/>
                <a:tab algn="l" pos="9675720"/>
                <a:tab algn="l" pos="10188720"/>
                <a:tab algn="l" pos="10701360"/>
              </a:tabLst>
            </a:pPr>
            <a:r>
              <a:rPr b="1" i="1" lang="nl-NL" sz="1800" spc="-1" strike="noStrike">
                <a:solidFill>
                  <a:srgbClr val="ffffff"/>
                </a:solidFill>
                <a:latin typeface="Verdana"/>
              </a:rPr>
              <a:t>Standaarden voor gegevensuitwisseling zijn noodzakelij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846000"/>
                <a:tab algn="l" pos="966960"/>
                <a:tab algn="l" pos="1477800"/>
                <a:tab algn="l" pos="1990800"/>
                <a:tab algn="l" pos="2503440"/>
                <a:tab algn="l" pos="3016080"/>
                <a:tab algn="l" pos="3527280"/>
                <a:tab algn="l" pos="4040280"/>
                <a:tab algn="l" pos="4552920"/>
                <a:tab algn="l" pos="5065560"/>
                <a:tab algn="l" pos="5576760"/>
                <a:tab algn="l" pos="6089760"/>
                <a:tab algn="l" pos="6602400"/>
                <a:tab algn="l" pos="7115040"/>
                <a:tab algn="l" pos="7626240"/>
                <a:tab algn="l" pos="8139240"/>
                <a:tab algn="l" pos="8651880"/>
                <a:tab algn="l" pos="9164520"/>
                <a:tab algn="l" pos="9675720"/>
                <a:tab algn="l" pos="10188720"/>
                <a:tab algn="l" pos="1070136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om de ambities van e-overheid te realis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89"/>
              </a:spcBef>
              <a:tabLst>
                <a:tab algn="l" pos="0"/>
                <a:tab algn="l" pos="846000"/>
                <a:tab algn="l" pos="966960"/>
                <a:tab algn="l" pos="1477800"/>
                <a:tab algn="l" pos="1990800"/>
                <a:tab algn="l" pos="2503440"/>
                <a:tab algn="l" pos="3016080"/>
                <a:tab algn="l" pos="3527280"/>
                <a:tab algn="l" pos="4040280"/>
                <a:tab algn="l" pos="4552920"/>
                <a:tab algn="l" pos="5065560"/>
                <a:tab algn="l" pos="5576760"/>
                <a:tab algn="l" pos="6089760"/>
                <a:tab algn="l" pos="6602400"/>
                <a:tab algn="l" pos="7115040"/>
                <a:tab algn="l" pos="7626240"/>
                <a:tab algn="l" pos="8139240"/>
                <a:tab algn="l" pos="8651880"/>
                <a:tab algn="l" pos="9164520"/>
                <a:tab algn="l" pos="9675720"/>
                <a:tab algn="l" pos="10188720"/>
                <a:tab algn="l" pos="1070136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Verdana"/>
              </a:rPr>
              <a:t>Klantgerichte digitale diens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89"/>
              </a:spcBef>
              <a:tabLst>
                <a:tab algn="l" pos="0"/>
                <a:tab algn="l" pos="846000"/>
                <a:tab algn="l" pos="966960"/>
                <a:tab algn="l" pos="1477800"/>
                <a:tab algn="l" pos="1990800"/>
                <a:tab algn="l" pos="2503440"/>
                <a:tab algn="l" pos="3016080"/>
                <a:tab algn="l" pos="3527280"/>
                <a:tab algn="l" pos="4040280"/>
                <a:tab algn="l" pos="4552920"/>
                <a:tab algn="l" pos="5065560"/>
                <a:tab algn="l" pos="5576760"/>
                <a:tab algn="l" pos="6089760"/>
                <a:tab algn="l" pos="6602400"/>
                <a:tab algn="l" pos="7115040"/>
                <a:tab algn="l" pos="7626240"/>
                <a:tab algn="l" pos="8139240"/>
                <a:tab algn="l" pos="8651880"/>
                <a:tab algn="l" pos="9164520"/>
                <a:tab algn="l" pos="9675720"/>
                <a:tab algn="l" pos="10188720"/>
                <a:tab algn="l" pos="1070136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Verdana"/>
              </a:rPr>
              <a:t>Ketensamenwer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89"/>
              </a:spcBef>
              <a:tabLst>
                <a:tab algn="l" pos="0"/>
                <a:tab algn="l" pos="846000"/>
                <a:tab algn="l" pos="966960"/>
                <a:tab algn="l" pos="1477800"/>
                <a:tab algn="l" pos="1990800"/>
                <a:tab algn="l" pos="2503440"/>
                <a:tab algn="l" pos="3016080"/>
                <a:tab algn="l" pos="3527280"/>
                <a:tab algn="l" pos="4040280"/>
                <a:tab algn="l" pos="4552920"/>
                <a:tab algn="l" pos="5065560"/>
                <a:tab algn="l" pos="5576760"/>
                <a:tab algn="l" pos="6089760"/>
                <a:tab algn="l" pos="6602400"/>
                <a:tab algn="l" pos="7115040"/>
                <a:tab algn="l" pos="7626240"/>
                <a:tab algn="l" pos="8139240"/>
                <a:tab algn="l" pos="8651880"/>
                <a:tab algn="l" pos="9164520"/>
                <a:tab algn="l" pos="9675720"/>
                <a:tab algn="l" pos="10188720"/>
                <a:tab algn="l" pos="1070136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Verdana"/>
              </a:rPr>
              <a:t>Eenmalige gegevensuitvraag en meervoudig gebrui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89"/>
              </a:spcBef>
              <a:tabLst>
                <a:tab algn="l" pos="0"/>
                <a:tab algn="l" pos="846000"/>
                <a:tab algn="l" pos="966960"/>
                <a:tab algn="l" pos="1477800"/>
                <a:tab algn="l" pos="1990800"/>
                <a:tab algn="l" pos="2503440"/>
                <a:tab algn="l" pos="3016080"/>
                <a:tab algn="l" pos="3527280"/>
                <a:tab algn="l" pos="4040280"/>
                <a:tab algn="l" pos="4552920"/>
                <a:tab algn="l" pos="5065560"/>
                <a:tab algn="l" pos="5576760"/>
                <a:tab algn="l" pos="6089760"/>
                <a:tab algn="l" pos="6602400"/>
                <a:tab algn="l" pos="7115040"/>
                <a:tab algn="l" pos="7626240"/>
                <a:tab algn="l" pos="8139240"/>
                <a:tab algn="l" pos="8651880"/>
                <a:tab algn="l" pos="9164520"/>
                <a:tab algn="l" pos="9675720"/>
                <a:tab algn="l" pos="10188720"/>
                <a:tab algn="l" pos="1070136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Verdana"/>
              </a:rPr>
              <a:t>Één loketgedachte, multichanneling, uniformite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846000"/>
                <a:tab algn="l" pos="966960"/>
                <a:tab algn="l" pos="1477800"/>
                <a:tab algn="l" pos="1990800"/>
                <a:tab algn="l" pos="2503440"/>
                <a:tab algn="l" pos="3016080"/>
                <a:tab algn="l" pos="3527280"/>
                <a:tab algn="l" pos="4040280"/>
                <a:tab algn="l" pos="4552920"/>
                <a:tab algn="l" pos="5065560"/>
                <a:tab algn="l" pos="5576760"/>
                <a:tab algn="l" pos="6089760"/>
                <a:tab algn="l" pos="6602400"/>
                <a:tab algn="l" pos="7115040"/>
                <a:tab algn="l" pos="7626240"/>
                <a:tab algn="l" pos="8139240"/>
                <a:tab algn="l" pos="8651880"/>
                <a:tab algn="l" pos="9164520"/>
                <a:tab algn="l" pos="9675720"/>
                <a:tab algn="l" pos="10188720"/>
                <a:tab algn="l" pos="10701360"/>
              </a:tabLst>
            </a:pPr>
            <a:r>
              <a:rPr b="1" i="1" lang="nl-NL" sz="1800" spc="-1" strike="noStrike">
                <a:solidFill>
                  <a:srgbClr val="ffffff"/>
                </a:solidFill>
                <a:latin typeface="Verdana"/>
              </a:rPr>
              <a:t>(Ont)kopp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846000"/>
                <a:tab algn="l" pos="966960"/>
                <a:tab algn="l" pos="1477800"/>
                <a:tab algn="l" pos="1990800"/>
                <a:tab algn="l" pos="2503440"/>
                <a:tab algn="l" pos="3016080"/>
                <a:tab algn="l" pos="3527280"/>
                <a:tab algn="l" pos="4040280"/>
                <a:tab algn="l" pos="4552920"/>
                <a:tab algn="l" pos="5065560"/>
                <a:tab algn="l" pos="5576760"/>
                <a:tab algn="l" pos="6089760"/>
                <a:tab algn="l" pos="6602400"/>
                <a:tab algn="l" pos="7115040"/>
                <a:tab algn="l" pos="7626240"/>
                <a:tab algn="l" pos="8139240"/>
                <a:tab algn="l" pos="8651880"/>
                <a:tab algn="l" pos="9164520"/>
                <a:tab algn="l" pos="9675720"/>
                <a:tab algn="l" pos="10188720"/>
                <a:tab algn="l" pos="10701360"/>
              </a:tabLst>
            </a:pPr>
            <a:r>
              <a:rPr b="1" i="1" lang="nl-NL" sz="1800" spc="-1" strike="noStrike">
                <a:solidFill>
                  <a:srgbClr val="ffffff"/>
                </a:solidFill>
                <a:latin typeface="Verdana"/>
              </a:rPr>
              <a:t>Robuustheid</a:t>
            </a: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 van 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846000"/>
                <a:tab algn="l" pos="966960"/>
                <a:tab algn="l" pos="1477800"/>
                <a:tab algn="l" pos="1990800"/>
                <a:tab algn="l" pos="2503440"/>
                <a:tab algn="l" pos="3016080"/>
                <a:tab algn="l" pos="3527280"/>
                <a:tab algn="l" pos="4040280"/>
                <a:tab algn="l" pos="4552920"/>
                <a:tab algn="l" pos="5065560"/>
                <a:tab algn="l" pos="5576760"/>
                <a:tab algn="l" pos="6089760"/>
                <a:tab algn="l" pos="6602400"/>
                <a:tab algn="l" pos="7115040"/>
                <a:tab algn="l" pos="7626240"/>
                <a:tab algn="l" pos="8139240"/>
                <a:tab algn="l" pos="8651880"/>
                <a:tab algn="l" pos="9164520"/>
                <a:tab algn="l" pos="9675720"/>
                <a:tab algn="l" pos="10188720"/>
                <a:tab algn="l" pos="10701360"/>
              </a:tabLst>
            </a:pPr>
            <a:r>
              <a:rPr b="1" i="1" lang="nl-NL" sz="1800" spc="-1" strike="noStrike">
                <a:solidFill>
                  <a:srgbClr val="ffffff"/>
                </a:solidFill>
                <a:latin typeface="Verdana"/>
              </a:rPr>
              <a:t>Keuzevrijheid</a:t>
            </a: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 in ICT oplossi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89"/>
              </a:spcBef>
              <a:tabLst>
                <a:tab algn="l" pos="0"/>
                <a:tab algn="l" pos="846000"/>
                <a:tab algn="l" pos="966960"/>
                <a:tab algn="l" pos="1477800"/>
                <a:tab algn="l" pos="1990800"/>
                <a:tab algn="l" pos="2503440"/>
                <a:tab algn="l" pos="3016080"/>
                <a:tab algn="l" pos="3527280"/>
                <a:tab algn="l" pos="4040280"/>
                <a:tab algn="l" pos="4552920"/>
                <a:tab algn="l" pos="5065560"/>
                <a:tab algn="l" pos="5576760"/>
                <a:tab algn="l" pos="6089760"/>
                <a:tab algn="l" pos="6602400"/>
                <a:tab algn="l" pos="7115040"/>
                <a:tab algn="l" pos="7626240"/>
                <a:tab algn="l" pos="8139240"/>
                <a:tab algn="l" pos="8651880"/>
                <a:tab algn="l" pos="9164520"/>
                <a:tab algn="l" pos="9675720"/>
                <a:tab algn="l" pos="10188720"/>
                <a:tab algn="l" pos="1070136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Verdana"/>
              </a:rPr>
              <a:t>Bevrijding uit “lock-in” situa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846000"/>
                <a:tab algn="l" pos="966960"/>
                <a:tab algn="l" pos="1477800"/>
                <a:tab algn="l" pos="1990800"/>
                <a:tab algn="l" pos="2503440"/>
                <a:tab algn="l" pos="3016080"/>
                <a:tab algn="l" pos="3527280"/>
                <a:tab algn="l" pos="4040280"/>
                <a:tab algn="l" pos="4552920"/>
                <a:tab algn="l" pos="5065560"/>
                <a:tab algn="l" pos="5576760"/>
                <a:tab algn="l" pos="6089760"/>
                <a:tab algn="l" pos="6602400"/>
                <a:tab algn="l" pos="7115040"/>
                <a:tab algn="l" pos="7626240"/>
                <a:tab algn="l" pos="8139240"/>
                <a:tab algn="l" pos="8651880"/>
                <a:tab algn="l" pos="9164520"/>
                <a:tab algn="l" pos="9675720"/>
                <a:tab algn="l" pos="10188720"/>
                <a:tab algn="l" pos="10701360"/>
              </a:tabLst>
            </a:pPr>
            <a:r>
              <a:rPr b="1" i="1" lang="nl-NL" sz="1800" spc="-1" strike="noStrike">
                <a:solidFill>
                  <a:srgbClr val="ffffff"/>
                </a:solidFill>
                <a:latin typeface="Verdana"/>
              </a:rPr>
              <a:t>Beheersing informatiehuishouding</a:t>
            </a: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89"/>
              </a:spcBef>
              <a:tabLst>
                <a:tab algn="l" pos="0"/>
                <a:tab algn="l" pos="846000"/>
                <a:tab algn="l" pos="966960"/>
                <a:tab algn="l" pos="1477800"/>
                <a:tab algn="l" pos="1990800"/>
                <a:tab algn="l" pos="2503440"/>
                <a:tab algn="l" pos="3016080"/>
                <a:tab algn="l" pos="3527280"/>
                <a:tab algn="l" pos="4040280"/>
                <a:tab algn="l" pos="4552920"/>
                <a:tab algn="l" pos="5065560"/>
                <a:tab algn="l" pos="5576760"/>
                <a:tab algn="l" pos="6089760"/>
                <a:tab algn="l" pos="6602400"/>
                <a:tab algn="l" pos="7115040"/>
                <a:tab algn="l" pos="7626240"/>
                <a:tab algn="l" pos="8139240"/>
                <a:tab algn="l" pos="8651880"/>
                <a:tab algn="l" pos="9164520"/>
                <a:tab algn="l" pos="9675720"/>
                <a:tab algn="l" pos="10188720"/>
                <a:tab algn="l" pos="1070136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Verdana"/>
              </a:rPr>
              <a:t>Gemeenschappelijk taal over ïnformatie”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89"/>
              </a:spcBef>
              <a:tabLst>
                <a:tab algn="l" pos="0"/>
                <a:tab algn="l" pos="846000"/>
                <a:tab algn="l" pos="966960"/>
                <a:tab algn="l" pos="1477800"/>
                <a:tab algn="l" pos="1990800"/>
                <a:tab algn="l" pos="2503440"/>
                <a:tab algn="l" pos="3016080"/>
                <a:tab algn="l" pos="3527280"/>
                <a:tab algn="l" pos="4040280"/>
                <a:tab algn="l" pos="4552920"/>
                <a:tab algn="l" pos="5065560"/>
                <a:tab algn="l" pos="5576760"/>
                <a:tab algn="l" pos="6089760"/>
                <a:tab algn="l" pos="6602400"/>
                <a:tab algn="l" pos="7115040"/>
                <a:tab algn="l" pos="7626240"/>
                <a:tab algn="l" pos="8139240"/>
                <a:tab algn="l" pos="8651880"/>
                <a:tab algn="l" pos="9164520"/>
                <a:tab algn="l" pos="9675720"/>
                <a:tab algn="l" pos="10188720"/>
                <a:tab algn="l" pos="1070136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Verdana"/>
              </a:rPr>
              <a:t>Dezelfde syntax, eenduidige beteken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846000"/>
                <a:tab algn="l" pos="966960"/>
                <a:tab algn="l" pos="1477800"/>
                <a:tab algn="l" pos="1990800"/>
                <a:tab algn="l" pos="2503440"/>
                <a:tab algn="l" pos="3016080"/>
                <a:tab algn="l" pos="3527280"/>
                <a:tab algn="l" pos="4040280"/>
                <a:tab algn="l" pos="4552920"/>
                <a:tab algn="l" pos="5065560"/>
                <a:tab algn="l" pos="5576760"/>
                <a:tab algn="l" pos="6089760"/>
                <a:tab algn="l" pos="6602400"/>
                <a:tab algn="l" pos="7115040"/>
                <a:tab algn="l" pos="7626240"/>
                <a:tab algn="l" pos="8139240"/>
                <a:tab algn="l" pos="8651880"/>
                <a:tab algn="l" pos="9164520"/>
                <a:tab algn="l" pos="9675720"/>
                <a:tab algn="l" pos="10188720"/>
                <a:tab algn="l" pos="10701360"/>
              </a:tabLst>
            </a:pPr>
            <a:r>
              <a:rPr b="1" i="1" lang="nl-NL" sz="1800" spc="-1" strike="noStrike">
                <a:solidFill>
                  <a:srgbClr val="ffffff"/>
                </a:solidFill>
                <a:latin typeface="Verdana"/>
              </a:rPr>
              <a:t>Lagere ICT kos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846000"/>
                <a:tab algn="l" pos="966960"/>
                <a:tab algn="l" pos="1477800"/>
                <a:tab algn="l" pos="1990800"/>
                <a:tab algn="l" pos="2503440"/>
                <a:tab algn="l" pos="3016080"/>
                <a:tab algn="l" pos="3527280"/>
                <a:tab algn="l" pos="4040280"/>
                <a:tab algn="l" pos="4552920"/>
                <a:tab algn="l" pos="5065560"/>
                <a:tab algn="l" pos="5576760"/>
                <a:tab algn="l" pos="6089760"/>
                <a:tab algn="l" pos="6602400"/>
                <a:tab algn="l" pos="7115040"/>
                <a:tab algn="l" pos="7626240"/>
                <a:tab algn="l" pos="8139240"/>
                <a:tab algn="l" pos="8651880"/>
                <a:tab algn="l" pos="9164520"/>
                <a:tab algn="l" pos="9675720"/>
                <a:tab algn="l" pos="10188720"/>
                <a:tab algn="l" pos="10701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 rot="18360000">
            <a:off x="7102800" y="5333760"/>
            <a:ext cx="3924360" cy="518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2600" rIns="102600" tIns="53280" bIns="53280" anchor="t">
            <a:spAutoFit/>
          </a:bodyPr>
          <a:p>
            <a:pPr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INTEROPERABILITEI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1"/>
          <a:stretch/>
        </p:blipFill>
        <p:spPr>
          <a:xfrm>
            <a:off x="8831160" y="0"/>
            <a:ext cx="1857600" cy="89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486160" y="1079640"/>
            <a:ext cx="776268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3280" bIns="53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StUF-fami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2986200" y="2567160"/>
            <a:ext cx="6867360" cy="39146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"/>
          <p:cNvPicPr/>
          <p:nvPr/>
        </p:nvPicPr>
        <p:blipFill>
          <a:blip r:embed="rId2"/>
          <a:stretch/>
        </p:blipFill>
        <p:spPr>
          <a:xfrm>
            <a:off x="8831160" y="0"/>
            <a:ext cx="185760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6" descr="D:\Wil\PPT\NEN EN OPENVGI\lufo.bmp"/>
          <p:cNvPicPr/>
          <p:nvPr/>
        </p:nvPicPr>
        <p:blipFill>
          <a:blip r:embed="rId1"/>
          <a:stretch/>
        </p:blipFill>
        <p:spPr>
          <a:xfrm>
            <a:off x="639720" y="1792440"/>
            <a:ext cx="4756320" cy="56196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2"/>
          <p:cNvSpPr/>
          <p:nvPr/>
        </p:nvSpPr>
        <p:spPr>
          <a:xfrm>
            <a:off x="2486160" y="550800"/>
            <a:ext cx="729936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3280" bIns="53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Voorbeelden van Geo-informatie over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7"/>
          <p:cNvSpPr/>
          <p:nvPr/>
        </p:nvSpPr>
        <p:spPr>
          <a:xfrm>
            <a:off x="3697200" y="2681280"/>
            <a:ext cx="368280" cy="376200"/>
          </a:xfrm>
          <a:custGeom>
            <a:avLst/>
            <a:gdLst>
              <a:gd name="textAreaLeft" fmla="*/ 0 w 368280"/>
              <a:gd name="textAreaRight" fmla="*/ 368640 w 36828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w="215" h="215">
                <a:moveTo>
                  <a:pt x="7" y="215"/>
                </a:moveTo>
                <a:lnTo>
                  <a:pt x="115" y="200"/>
                </a:lnTo>
                <a:lnTo>
                  <a:pt x="207" y="131"/>
                </a:lnTo>
                <a:lnTo>
                  <a:pt x="215" y="15"/>
                </a:lnTo>
                <a:lnTo>
                  <a:pt x="154" y="31"/>
                </a:lnTo>
                <a:lnTo>
                  <a:pt x="138" y="115"/>
                </a:lnTo>
                <a:lnTo>
                  <a:pt x="84" y="0"/>
                </a:lnTo>
                <a:lnTo>
                  <a:pt x="0" y="15"/>
                </a:lnTo>
                <a:lnTo>
                  <a:pt x="7" y="215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8"/>
          <p:cNvSpPr/>
          <p:nvPr/>
        </p:nvSpPr>
        <p:spPr>
          <a:xfrm>
            <a:off x="3130560" y="3032280"/>
            <a:ext cx="619200" cy="604800"/>
          </a:xfrm>
          <a:custGeom>
            <a:avLst/>
            <a:gdLst>
              <a:gd name="textAreaLeft" fmla="*/ 0 w 619200"/>
              <a:gd name="textAreaRight" fmla="*/ 619200 w 619200"/>
              <a:gd name="textAreaTop" fmla="*/ 0 h 604800"/>
              <a:gd name="textAreaBottom" fmla="*/ 605160 h 604800"/>
            </a:gdLst>
            <a:ahLst/>
            <a:rect l="textAreaLeft" t="textAreaTop" r="textAreaRight" b="textAreaBottom"/>
            <a:pathLst>
              <a:path w="362" h="346">
                <a:moveTo>
                  <a:pt x="0" y="84"/>
                </a:moveTo>
                <a:lnTo>
                  <a:pt x="262" y="0"/>
                </a:lnTo>
                <a:lnTo>
                  <a:pt x="362" y="269"/>
                </a:lnTo>
                <a:lnTo>
                  <a:pt x="108" y="346"/>
                </a:lnTo>
                <a:lnTo>
                  <a:pt x="8" y="215"/>
                </a:lnTo>
                <a:lnTo>
                  <a:pt x="0" y="84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9"/>
          <p:cNvSpPr/>
          <p:nvPr/>
        </p:nvSpPr>
        <p:spPr>
          <a:xfrm>
            <a:off x="4092480" y="1792440"/>
            <a:ext cx="946080" cy="1265040"/>
          </a:xfrm>
          <a:custGeom>
            <a:avLst/>
            <a:gdLst>
              <a:gd name="textAreaLeft" fmla="*/ 0 w 946080"/>
              <a:gd name="textAreaRight" fmla="*/ 946440 w 946080"/>
              <a:gd name="textAreaTop" fmla="*/ 0 h 1265040"/>
              <a:gd name="textAreaBottom" fmla="*/ 1265040 h 1265040"/>
            </a:gdLst>
            <a:ahLst/>
            <a:rect l="textAreaLeft" t="textAreaTop" r="textAreaRight" b="textAreaBottom"/>
            <a:pathLst>
              <a:path w="553" h="723">
                <a:moveTo>
                  <a:pt x="52" y="95"/>
                </a:moveTo>
                <a:lnTo>
                  <a:pt x="38" y="592"/>
                </a:lnTo>
                <a:lnTo>
                  <a:pt x="0" y="723"/>
                </a:lnTo>
                <a:lnTo>
                  <a:pt x="200" y="615"/>
                </a:lnTo>
                <a:lnTo>
                  <a:pt x="361" y="577"/>
                </a:lnTo>
                <a:lnTo>
                  <a:pt x="423" y="523"/>
                </a:lnTo>
                <a:lnTo>
                  <a:pt x="500" y="446"/>
                </a:lnTo>
                <a:lnTo>
                  <a:pt x="492" y="369"/>
                </a:lnTo>
                <a:lnTo>
                  <a:pt x="523" y="262"/>
                </a:lnTo>
                <a:lnTo>
                  <a:pt x="553" y="215"/>
                </a:lnTo>
                <a:lnTo>
                  <a:pt x="407" y="0"/>
                </a:lnTo>
                <a:lnTo>
                  <a:pt x="161" y="0"/>
                </a:lnTo>
                <a:lnTo>
                  <a:pt x="52" y="95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10"/>
          <p:cNvSpPr/>
          <p:nvPr/>
        </p:nvSpPr>
        <p:spPr>
          <a:xfrm>
            <a:off x="3551400" y="1792440"/>
            <a:ext cx="645840" cy="1724040"/>
          </a:xfrm>
          <a:custGeom>
            <a:avLst/>
            <a:gdLst>
              <a:gd name="textAreaLeft" fmla="*/ 0 w 645840"/>
              <a:gd name="textAreaRight" fmla="*/ 646200 w 645840"/>
              <a:gd name="textAreaTop" fmla="*/ 0 h 1724040"/>
              <a:gd name="textAreaBottom" fmla="*/ 1724400 h 1724040"/>
            </a:gdLst>
            <a:ahLst/>
            <a:rect l="textAreaLeft" t="textAreaTop" r="textAreaRight" b="textAreaBottom"/>
            <a:pathLst>
              <a:path w="377" h="985">
                <a:moveTo>
                  <a:pt x="316" y="0"/>
                </a:moveTo>
                <a:lnTo>
                  <a:pt x="323" y="285"/>
                </a:lnTo>
                <a:lnTo>
                  <a:pt x="300" y="539"/>
                </a:lnTo>
                <a:lnTo>
                  <a:pt x="277" y="639"/>
                </a:lnTo>
                <a:lnTo>
                  <a:pt x="185" y="715"/>
                </a:lnTo>
                <a:lnTo>
                  <a:pt x="92" y="715"/>
                </a:lnTo>
                <a:lnTo>
                  <a:pt x="92" y="515"/>
                </a:lnTo>
                <a:lnTo>
                  <a:pt x="0" y="531"/>
                </a:lnTo>
                <a:lnTo>
                  <a:pt x="23" y="715"/>
                </a:lnTo>
                <a:lnTo>
                  <a:pt x="123" y="985"/>
                </a:lnTo>
                <a:lnTo>
                  <a:pt x="208" y="931"/>
                </a:lnTo>
                <a:lnTo>
                  <a:pt x="169" y="831"/>
                </a:lnTo>
                <a:lnTo>
                  <a:pt x="308" y="708"/>
                </a:lnTo>
                <a:lnTo>
                  <a:pt x="362" y="615"/>
                </a:lnTo>
                <a:lnTo>
                  <a:pt x="377" y="69"/>
                </a:lnTo>
                <a:lnTo>
                  <a:pt x="369" y="0"/>
                </a:lnTo>
                <a:lnTo>
                  <a:pt x="316" y="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5897520" y="2292480"/>
            <a:ext cx="443556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Grootschalige Basiskaart (GBKN</a:t>
            </a:r>
            <a:r>
              <a:rPr b="0" lang="nl-NL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 BG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12"/>
          <p:cNvGrpSpPr/>
          <p:nvPr/>
        </p:nvGrpSpPr>
        <p:grpSpPr>
          <a:xfrm>
            <a:off x="608040" y="1996920"/>
            <a:ext cx="1869840" cy="2812680"/>
            <a:chOff x="608040" y="1996920"/>
            <a:chExt cx="1869840" cy="2812680"/>
          </a:xfrm>
        </p:grpSpPr>
        <p:sp>
          <p:nvSpPr>
            <p:cNvPr id="148" name="Freeform 13"/>
            <p:cNvSpPr/>
            <p:nvPr/>
          </p:nvSpPr>
          <p:spPr>
            <a:xfrm>
              <a:off x="871560" y="3544200"/>
              <a:ext cx="618120" cy="673920"/>
            </a:xfrm>
            <a:custGeom>
              <a:avLst/>
              <a:gdLst>
                <a:gd name="textAreaLeft" fmla="*/ 0 w 618120"/>
                <a:gd name="textAreaRight" fmla="*/ 618480 w 618120"/>
                <a:gd name="textAreaTop" fmla="*/ 0 h 673920"/>
                <a:gd name="textAreaBottom" fmla="*/ 674280 h 673920"/>
              </a:gdLst>
              <a:ahLst/>
              <a:rect l="textAreaLeft" t="textAreaTop" r="textAreaRight" b="textAreaBottom"/>
              <a:pathLst>
                <a:path w="361" h="385">
                  <a:moveTo>
                    <a:pt x="0" y="138"/>
                  </a:moveTo>
                  <a:lnTo>
                    <a:pt x="100" y="385"/>
                  </a:lnTo>
                  <a:lnTo>
                    <a:pt x="361" y="285"/>
                  </a:lnTo>
                  <a:lnTo>
                    <a:pt x="276" y="115"/>
                  </a:lnTo>
                  <a:lnTo>
                    <a:pt x="353" y="85"/>
                  </a:lnTo>
                  <a:lnTo>
                    <a:pt x="300" y="0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5050"/>
            </a:soli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4"/>
            <p:cNvSpPr/>
            <p:nvPr/>
          </p:nvSpPr>
          <p:spPr>
            <a:xfrm>
              <a:off x="608040" y="1996920"/>
              <a:ext cx="1869840" cy="2812680"/>
            </a:xfrm>
            <a:custGeom>
              <a:avLst/>
              <a:gdLst>
                <a:gd name="textAreaLeft" fmla="*/ 0 w 1869840"/>
                <a:gd name="textAreaRight" fmla="*/ 1870200 w 1869840"/>
                <a:gd name="textAreaTop" fmla="*/ 0 h 2812680"/>
                <a:gd name="textAreaBottom" fmla="*/ 2812680 h 2812680"/>
              </a:gdLst>
              <a:ahLst/>
              <a:rect l="textAreaLeft" t="textAreaTop" r="textAreaRight" b="textAreaBottom"/>
              <a:pathLst>
                <a:path w="1092" h="1607">
                  <a:moveTo>
                    <a:pt x="15" y="0"/>
                  </a:moveTo>
                  <a:lnTo>
                    <a:pt x="292" y="484"/>
                  </a:lnTo>
                  <a:lnTo>
                    <a:pt x="377" y="592"/>
                  </a:lnTo>
                  <a:lnTo>
                    <a:pt x="515" y="846"/>
                  </a:lnTo>
                  <a:lnTo>
                    <a:pt x="723" y="738"/>
                  </a:lnTo>
                  <a:lnTo>
                    <a:pt x="746" y="807"/>
                  </a:lnTo>
                  <a:lnTo>
                    <a:pt x="538" y="869"/>
                  </a:lnTo>
                  <a:lnTo>
                    <a:pt x="607" y="992"/>
                  </a:lnTo>
                  <a:lnTo>
                    <a:pt x="792" y="1199"/>
                  </a:lnTo>
                  <a:lnTo>
                    <a:pt x="1061" y="1084"/>
                  </a:lnTo>
                  <a:lnTo>
                    <a:pt x="1092" y="1169"/>
                  </a:lnTo>
                  <a:lnTo>
                    <a:pt x="930" y="1215"/>
                  </a:lnTo>
                  <a:lnTo>
                    <a:pt x="846" y="1269"/>
                  </a:lnTo>
                  <a:lnTo>
                    <a:pt x="915" y="1361"/>
                  </a:lnTo>
                  <a:lnTo>
                    <a:pt x="838" y="1392"/>
                  </a:lnTo>
                  <a:lnTo>
                    <a:pt x="777" y="1315"/>
                  </a:lnTo>
                  <a:lnTo>
                    <a:pt x="407" y="1515"/>
                  </a:lnTo>
                  <a:lnTo>
                    <a:pt x="15" y="1607"/>
                  </a:lnTo>
                  <a:lnTo>
                    <a:pt x="23" y="1538"/>
                  </a:lnTo>
                  <a:lnTo>
                    <a:pt x="346" y="1461"/>
                  </a:lnTo>
                  <a:lnTo>
                    <a:pt x="730" y="1269"/>
                  </a:lnTo>
                  <a:lnTo>
                    <a:pt x="584" y="1069"/>
                  </a:lnTo>
                  <a:lnTo>
                    <a:pt x="407" y="807"/>
                  </a:lnTo>
                  <a:lnTo>
                    <a:pt x="15" y="992"/>
                  </a:lnTo>
                  <a:lnTo>
                    <a:pt x="7" y="907"/>
                  </a:lnTo>
                  <a:lnTo>
                    <a:pt x="361" y="746"/>
                  </a:lnTo>
                  <a:lnTo>
                    <a:pt x="169" y="476"/>
                  </a:lnTo>
                  <a:lnTo>
                    <a:pt x="0" y="16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99"/>
            </a:solidFill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5"/>
            <p:cNvSpPr/>
            <p:nvPr/>
          </p:nvSpPr>
          <p:spPr>
            <a:xfrm>
              <a:off x="1529280" y="3974760"/>
              <a:ext cx="316800" cy="309600"/>
            </a:xfrm>
            <a:custGeom>
              <a:avLst/>
              <a:gdLst>
                <a:gd name="textAreaLeft" fmla="*/ 0 w 316800"/>
                <a:gd name="textAreaRight" fmla="*/ 317160 w 316800"/>
                <a:gd name="textAreaTop" fmla="*/ 0 h 309600"/>
                <a:gd name="textAreaBottom" fmla="*/ 309960 h 309600"/>
              </a:gdLst>
              <a:ahLst/>
              <a:rect l="textAreaLeft" t="textAreaTop" r="textAreaRight" b="textAreaBottom"/>
              <a:pathLst>
                <a:path w="185" h="177">
                  <a:moveTo>
                    <a:pt x="0" y="46"/>
                  </a:moveTo>
                  <a:lnTo>
                    <a:pt x="92" y="0"/>
                  </a:lnTo>
                  <a:lnTo>
                    <a:pt x="185" y="131"/>
                  </a:lnTo>
                  <a:lnTo>
                    <a:pt x="69" y="177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5050"/>
            </a:soli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6"/>
            <p:cNvSpPr/>
            <p:nvPr/>
          </p:nvSpPr>
          <p:spPr>
            <a:xfrm>
              <a:off x="1846080" y="3745440"/>
              <a:ext cx="316800" cy="309600"/>
            </a:xfrm>
            <a:custGeom>
              <a:avLst/>
              <a:gdLst>
                <a:gd name="textAreaLeft" fmla="*/ 0 w 316800"/>
                <a:gd name="textAreaRight" fmla="*/ 317160 w 316800"/>
                <a:gd name="textAreaTop" fmla="*/ 0 h 309600"/>
                <a:gd name="textAreaBottom" fmla="*/ 309960 h 309600"/>
              </a:gdLst>
              <a:ahLst/>
              <a:rect l="textAreaLeft" t="textAreaTop" r="textAreaRight" b="textAreaBottom"/>
              <a:pathLst>
                <a:path w="185" h="177">
                  <a:moveTo>
                    <a:pt x="0" y="46"/>
                  </a:moveTo>
                  <a:lnTo>
                    <a:pt x="92" y="0"/>
                  </a:lnTo>
                  <a:lnTo>
                    <a:pt x="185" y="131"/>
                  </a:lnTo>
                  <a:lnTo>
                    <a:pt x="69" y="177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5050"/>
            </a:soli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7"/>
            <p:cNvSpPr/>
            <p:nvPr/>
          </p:nvSpPr>
          <p:spPr>
            <a:xfrm>
              <a:off x="1556640" y="3462120"/>
              <a:ext cx="316440" cy="309600"/>
            </a:xfrm>
            <a:custGeom>
              <a:avLst/>
              <a:gdLst>
                <a:gd name="textAreaLeft" fmla="*/ 0 w 316440"/>
                <a:gd name="textAreaRight" fmla="*/ 316800 w 316440"/>
                <a:gd name="textAreaTop" fmla="*/ 0 h 309600"/>
                <a:gd name="textAreaBottom" fmla="*/ 309960 h 309600"/>
              </a:gdLst>
              <a:ahLst/>
              <a:rect l="textAreaLeft" t="textAreaTop" r="textAreaRight" b="textAreaBottom"/>
              <a:pathLst>
                <a:path w="185" h="177">
                  <a:moveTo>
                    <a:pt x="0" y="46"/>
                  </a:moveTo>
                  <a:lnTo>
                    <a:pt x="92" y="0"/>
                  </a:lnTo>
                  <a:lnTo>
                    <a:pt x="185" y="131"/>
                  </a:lnTo>
                  <a:lnTo>
                    <a:pt x="69" y="177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5050"/>
            </a:soli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8"/>
            <p:cNvSpPr/>
            <p:nvPr/>
          </p:nvSpPr>
          <p:spPr>
            <a:xfrm>
              <a:off x="1373400" y="3123720"/>
              <a:ext cx="316440" cy="309960"/>
            </a:xfrm>
            <a:custGeom>
              <a:avLst/>
              <a:gdLst>
                <a:gd name="textAreaLeft" fmla="*/ 0 w 316440"/>
                <a:gd name="textAreaRight" fmla="*/ 316800 w 316440"/>
                <a:gd name="textAreaTop" fmla="*/ 0 h 309960"/>
                <a:gd name="textAreaBottom" fmla="*/ 310320 h 309960"/>
              </a:gdLst>
              <a:ahLst/>
              <a:rect l="textAreaLeft" t="textAreaTop" r="textAreaRight" b="textAreaBottom"/>
              <a:pathLst>
                <a:path w="185" h="177">
                  <a:moveTo>
                    <a:pt x="0" y="46"/>
                  </a:moveTo>
                  <a:lnTo>
                    <a:pt x="92" y="0"/>
                  </a:lnTo>
                  <a:lnTo>
                    <a:pt x="185" y="131"/>
                  </a:lnTo>
                  <a:lnTo>
                    <a:pt x="69" y="177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5050"/>
            </a:soli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9"/>
            <p:cNvSpPr/>
            <p:nvPr/>
          </p:nvSpPr>
          <p:spPr>
            <a:xfrm>
              <a:off x="886680" y="3069720"/>
              <a:ext cx="316800" cy="309600"/>
            </a:xfrm>
            <a:custGeom>
              <a:avLst/>
              <a:gdLst>
                <a:gd name="textAreaLeft" fmla="*/ 0 w 316800"/>
                <a:gd name="textAreaRight" fmla="*/ 317160 w 316800"/>
                <a:gd name="textAreaTop" fmla="*/ 0 h 309600"/>
                <a:gd name="textAreaBottom" fmla="*/ 309960 h 309600"/>
              </a:gdLst>
              <a:ahLst/>
              <a:rect l="textAreaLeft" t="textAreaTop" r="textAreaRight" b="textAreaBottom"/>
              <a:pathLst>
                <a:path w="185" h="177">
                  <a:moveTo>
                    <a:pt x="0" y="46"/>
                  </a:moveTo>
                  <a:lnTo>
                    <a:pt x="92" y="0"/>
                  </a:lnTo>
                  <a:lnTo>
                    <a:pt x="185" y="131"/>
                  </a:lnTo>
                  <a:lnTo>
                    <a:pt x="69" y="177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5050"/>
            </a:soli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0"/>
            <p:cNvSpPr/>
            <p:nvPr/>
          </p:nvSpPr>
          <p:spPr>
            <a:xfrm>
              <a:off x="1099080" y="4200480"/>
              <a:ext cx="316800" cy="309960"/>
            </a:xfrm>
            <a:custGeom>
              <a:avLst/>
              <a:gdLst>
                <a:gd name="textAreaLeft" fmla="*/ 0 w 316800"/>
                <a:gd name="textAreaRight" fmla="*/ 317160 w 316800"/>
                <a:gd name="textAreaTop" fmla="*/ 0 h 309960"/>
                <a:gd name="textAreaBottom" fmla="*/ 310320 h 309960"/>
              </a:gdLst>
              <a:ahLst/>
              <a:rect l="textAreaLeft" t="textAreaTop" r="textAreaRight" b="textAreaBottom"/>
              <a:pathLst>
                <a:path w="185" h="177">
                  <a:moveTo>
                    <a:pt x="0" y="46"/>
                  </a:moveTo>
                  <a:lnTo>
                    <a:pt x="92" y="0"/>
                  </a:lnTo>
                  <a:lnTo>
                    <a:pt x="185" y="131"/>
                  </a:lnTo>
                  <a:lnTo>
                    <a:pt x="69" y="177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5050"/>
            </a:soli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21"/>
            <p:cNvSpPr/>
            <p:nvPr/>
          </p:nvSpPr>
          <p:spPr>
            <a:xfrm>
              <a:off x="1323720" y="4093560"/>
              <a:ext cx="316800" cy="309960"/>
            </a:xfrm>
            <a:custGeom>
              <a:avLst/>
              <a:gdLst>
                <a:gd name="textAreaLeft" fmla="*/ 0 w 316800"/>
                <a:gd name="textAreaRight" fmla="*/ 317160 w 316800"/>
                <a:gd name="textAreaTop" fmla="*/ 0 h 309960"/>
                <a:gd name="textAreaBottom" fmla="*/ 310320 h 309960"/>
              </a:gdLst>
              <a:ahLst/>
              <a:rect l="textAreaLeft" t="textAreaTop" r="textAreaRight" b="textAreaBottom"/>
              <a:pathLst>
                <a:path w="185" h="177">
                  <a:moveTo>
                    <a:pt x="0" y="46"/>
                  </a:moveTo>
                  <a:lnTo>
                    <a:pt x="92" y="0"/>
                  </a:lnTo>
                  <a:lnTo>
                    <a:pt x="185" y="131"/>
                  </a:lnTo>
                  <a:lnTo>
                    <a:pt x="69" y="177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5050"/>
            </a:soli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22"/>
            <p:cNvSpPr/>
            <p:nvPr/>
          </p:nvSpPr>
          <p:spPr>
            <a:xfrm>
              <a:off x="871560" y="2211840"/>
              <a:ext cx="763560" cy="686160"/>
            </a:xfrm>
            <a:custGeom>
              <a:avLst/>
              <a:gdLst>
                <a:gd name="textAreaLeft" fmla="*/ 0 w 763560"/>
                <a:gd name="textAreaRight" fmla="*/ 763920 w 763560"/>
                <a:gd name="textAreaTop" fmla="*/ 0 h 686160"/>
                <a:gd name="textAreaBottom" fmla="*/ 686160 h 686160"/>
              </a:gdLst>
              <a:ahLst/>
              <a:rect l="textAreaLeft" t="textAreaTop" r="textAreaRight" b="textAreaBottom"/>
              <a:pathLst>
                <a:path w="446" h="392">
                  <a:moveTo>
                    <a:pt x="0" y="107"/>
                  </a:moveTo>
                  <a:lnTo>
                    <a:pt x="246" y="0"/>
                  </a:lnTo>
                  <a:lnTo>
                    <a:pt x="292" y="92"/>
                  </a:lnTo>
                  <a:lnTo>
                    <a:pt x="215" y="123"/>
                  </a:lnTo>
                  <a:lnTo>
                    <a:pt x="246" y="200"/>
                  </a:lnTo>
                  <a:lnTo>
                    <a:pt x="292" y="169"/>
                  </a:lnTo>
                  <a:lnTo>
                    <a:pt x="315" y="215"/>
                  </a:lnTo>
                  <a:lnTo>
                    <a:pt x="400" y="176"/>
                  </a:lnTo>
                  <a:lnTo>
                    <a:pt x="446" y="253"/>
                  </a:lnTo>
                  <a:lnTo>
                    <a:pt x="176" y="392"/>
                  </a:lnTo>
                  <a:lnTo>
                    <a:pt x="138" y="346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ff5050"/>
            </a:soli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AutoShape 23"/>
            <p:cNvSpPr/>
            <p:nvPr/>
          </p:nvSpPr>
          <p:spPr>
            <a:xfrm>
              <a:off x="1272600" y="2917440"/>
              <a:ext cx="164160" cy="167760"/>
            </a:xfrm>
            <a:prstGeom prst="diamond">
              <a:avLst/>
            </a:prstGeom>
            <a:solidFill>
              <a:srgbClr val="00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AutoShape 24"/>
            <p:cNvSpPr/>
            <p:nvPr/>
          </p:nvSpPr>
          <p:spPr>
            <a:xfrm>
              <a:off x="1114560" y="3468600"/>
              <a:ext cx="164160" cy="168120"/>
            </a:xfrm>
            <a:prstGeom prst="diamond">
              <a:avLst/>
            </a:prstGeom>
            <a:solidFill>
              <a:srgbClr val="00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25"/>
            <p:cNvSpPr/>
            <p:nvPr/>
          </p:nvSpPr>
          <p:spPr>
            <a:xfrm rot="4429800">
              <a:off x="909720" y="3148200"/>
              <a:ext cx="252000" cy="164520"/>
            </a:xfrm>
            <a:prstGeom prst="lightningBol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AutoShape 26"/>
            <p:cNvSpPr/>
            <p:nvPr/>
          </p:nvSpPr>
          <p:spPr>
            <a:xfrm>
              <a:off x="886680" y="4228560"/>
              <a:ext cx="164520" cy="167760"/>
            </a:xfrm>
            <a:custGeom>
              <a:avLst/>
              <a:gdLst>
                <a:gd name="textAreaLeft" fmla="*/ 19080 w 164520"/>
                <a:gd name="textAreaRight" fmla="*/ 145440 w 164520"/>
                <a:gd name="textAreaTop" fmla="*/ 19080 h 167760"/>
                <a:gd name="textAreaBottom" fmla="*/ 148680 h 167760"/>
              </a:gdLst>
              <a:ahLst/>
              <a:rect l="textAreaLeft" t="textAreaTop" r="textAreaRight" b="textAreaBottom"/>
              <a:pathLst>
                <a:path w="21600" h="22024">
                  <a:moveTo>
                    <a:pt x="3600" y="0"/>
                  </a:moveTo>
                  <a:arcTo wR="3600" hR="3600" stAng="0" swAng="5400000"/>
                  <a:lnTo>
                    <a:pt x="0" y="18424"/>
                  </a:lnTo>
                  <a:arcTo wR="3600" hR="3600" stAng="16200000" swAng="5400000"/>
                  <a:lnTo>
                    <a:pt x="18000" y="22024"/>
                  </a:lnTo>
                  <a:arcTo wR="3600" hR="3600" stAng="10800000" swAng="5400000"/>
                  <a:lnTo>
                    <a:pt x="216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AutoShape 27"/>
            <p:cNvSpPr/>
            <p:nvPr/>
          </p:nvSpPr>
          <p:spPr>
            <a:xfrm>
              <a:off x="1888920" y="3554640"/>
              <a:ext cx="164160" cy="168120"/>
            </a:xfrm>
            <a:custGeom>
              <a:avLst/>
              <a:gdLst>
                <a:gd name="textAreaLeft" fmla="*/ 19080 w 164160"/>
                <a:gd name="textAreaRight" fmla="*/ 145080 w 164160"/>
                <a:gd name="textAreaTop" fmla="*/ 19080 h 168120"/>
                <a:gd name="textAreaBottom" fmla="*/ 149040 h 168120"/>
              </a:gdLst>
              <a:ahLst/>
              <a:rect l="textAreaLeft" t="textAreaTop" r="textAreaRight" b="textAreaBottom"/>
              <a:pathLst>
                <a:path w="21600" h="22120">
                  <a:moveTo>
                    <a:pt x="3600" y="0"/>
                  </a:moveTo>
                  <a:arcTo wR="3600" hR="3600" stAng="0" swAng="5400000"/>
                  <a:lnTo>
                    <a:pt x="0" y="18520"/>
                  </a:lnTo>
                  <a:arcTo wR="3600" hR="3600" stAng="16200000" swAng="5400000"/>
                  <a:lnTo>
                    <a:pt x="18000" y="22120"/>
                  </a:lnTo>
                  <a:arcTo wR="3600" hR="3600" stAng="10800000" swAng="5400000"/>
                  <a:lnTo>
                    <a:pt x="216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AutoShape 28"/>
            <p:cNvSpPr/>
            <p:nvPr/>
          </p:nvSpPr>
          <p:spPr>
            <a:xfrm>
              <a:off x="847440" y="2113920"/>
              <a:ext cx="164160" cy="167760"/>
            </a:xfrm>
            <a:custGeom>
              <a:avLst/>
              <a:gdLst>
                <a:gd name="textAreaLeft" fmla="*/ 19080 w 164160"/>
                <a:gd name="textAreaRight" fmla="*/ 145080 w 164160"/>
                <a:gd name="textAreaTop" fmla="*/ 19080 h 167760"/>
                <a:gd name="textAreaBottom" fmla="*/ 148680 h 167760"/>
              </a:gdLst>
              <a:ahLst/>
              <a:rect l="textAreaLeft" t="textAreaTop" r="textAreaRight" b="textAreaBottom"/>
              <a:pathLst>
                <a:path w="21600" h="22073">
                  <a:moveTo>
                    <a:pt x="3600" y="0"/>
                  </a:moveTo>
                  <a:arcTo wR="3600" hR="3600" stAng="0" swAng="5400000"/>
                  <a:lnTo>
                    <a:pt x="0" y="18473"/>
                  </a:lnTo>
                  <a:arcTo wR="3600" hR="3600" stAng="16200000" swAng="5400000"/>
                  <a:lnTo>
                    <a:pt x="18000" y="22073"/>
                  </a:lnTo>
                  <a:arcTo wR="3600" hR="3600" stAng="10800000" swAng="5400000"/>
                  <a:lnTo>
                    <a:pt x="216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29"/>
            <p:cNvSpPr/>
            <p:nvPr/>
          </p:nvSpPr>
          <p:spPr>
            <a:xfrm rot="19900800">
              <a:off x="1251360" y="4215960"/>
              <a:ext cx="1043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868320"/>
                  <a:tab algn="l" pos="1736640"/>
                  <a:tab algn="l" pos="2604960"/>
                  <a:tab algn="l" pos="3473280"/>
                  <a:tab algn="l" pos="4341960"/>
                  <a:tab algn="l" pos="5210280"/>
                  <a:tab algn="l" pos="6078600"/>
                  <a:tab algn="l" pos="6946920"/>
                  <a:tab algn="l" pos="7815240"/>
                  <a:tab algn="l" pos="8683560"/>
                  <a:tab algn="l" pos="9551880"/>
                  <a:tab algn="l" pos="10420200"/>
                </a:tabLst>
              </a:pPr>
              <a:r>
                <a:rPr b="0" lang="nl-NL" sz="900" spc="-1" strike="noStrike">
                  <a:solidFill>
                    <a:srgbClr val="000000"/>
                  </a:solidFill>
                  <a:latin typeface="Arial"/>
                </a:rPr>
                <a:t>HOOFDSTRAA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30"/>
            <p:cNvSpPr/>
            <p:nvPr/>
          </p:nvSpPr>
          <p:spPr>
            <a:xfrm rot="3495600">
              <a:off x="619920" y="2758680"/>
              <a:ext cx="822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868320"/>
                  <a:tab algn="l" pos="1736640"/>
                  <a:tab algn="l" pos="2604960"/>
                  <a:tab algn="l" pos="3473280"/>
                  <a:tab algn="l" pos="4341960"/>
                  <a:tab algn="l" pos="5210280"/>
                  <a:tab algn="l" pos="6078600"/>
                  <a:tab algn="l" pos="6946920"/>
                  <a:tab algn="l" pos="7815240"/>
                  <a:tab algn="l" pos="8683560"/>
                  <a:tab algn="l" pos="9551880"/>
                  <a:tab algn="l" pos="10420200"/>
                </a:tabLst>
              </a:pPr>
              <a:r>
                <a:rPr b="0" lang="nl-NL" sz="900" spc="-1" strike="noStrike">
                  <a:solidFill>
                    <a:srgbClr val="000000"/>
                  </a:solidFill>
                  <a:latin typeface="Arial"/>
                </a:rPr>
                <a:t>EIKENLAA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31"/>
            <p:cNvSpPr/>
            <p:nvPr/>
          </p:nvSpPr>
          <p:spPr>
            <a:xfrm>
              <a:off x="1117440" y="3822480"/>
              <a:ext cx="3362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868320"/>
                  <a:tab algn="l" pos="1736640"/>
                  <a:tab algn="l" pos="2604960"/>
                  <a:tab algn="l" pos="3473280"/>
                  <a:tab algn="l" pos="4341960"/>
                  <a:tab algn="l" pos="5210280"/>
                  <a:tab algn="l" pos="6078600"/>
                  <a:tab algn="l" pos="6946920"/>
                  <a:tab algn="l" pos="7815240"/>
                  <a:tab algn="l" pos="8683560"/>
                  <a:tab algn="l" pos="9551880"/>
                  <a:tab algn="l" pos="10420200"/>
                </a:tabLst>
              </a:pPr>
              <a:r>
                <a:rPr b="0" lang="nl-NL" sz="11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32"/>
            <p:cNvSpPr/>
            <p:nvPr/>
          </p:nvSpPr>
          <p:spPr>
            <a:xfrm>
              <a:off x="893160" y="2341440"/>
              <a:ext cx="3362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868320"/>
                  <a:tab algn="l" pos="1736640"/>
                  <a:tab algn="l" pos="2604960"/>
                  <a:tab algn="l" pos="3473280"/>
                  <a:tab algn="l" pos="4341960"/>
                  <a:tab algn="l" pos="5210280"/>
                  <a:tab algn="l" pos="6078600"/>
                  <a:tab algn="l" pos="6946920"/>
                  <a:tab algn="l" pos="7815240"/>
                  <a:tab algn="l" pos="8683560"/>
                  <a:tab algn="l" pos="9551880"/>
                  <a:tab algn="l" pos="10420200"/>
                </a:tabLst>
              </a:pPr>
              <a:r>
                <a:rPr b="0" lang="nl-NL" sz="1100" spc="-1" strike="noStrike">
                  <a:solidFill>
                    <a:srgbClr val="000000"/>
                  </a:solidFill>
                  <a:latin typeface="Arial"/>
                </a:rPr>
                <a:t>2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33"/>
            <p:cNvSpPr/>
            <p:nvPr/>
          </p:nvSpPr>
          <p:spPr>
            <a:xfrm>
              <a:off x="1054440" y="2548080"/>
              <a:ext cx="3362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868320"/>
                  <a:tab algn="l" pos="1736640"/>
                  <a:tab algn="l" pos="2604960"/>
                  <a:tab algn="l" pos="3473280"/>
                  <a:tab algn="l" pos="4341960"/>
                  <a:tab algn="l" pos="5210280"/>
                  <a:tab algn="l" pos="6078600"/>
                  <a:tab algn="l" pos="6946920"/>
                  <a:tab algn="l" pos="7815240"/>
                  <a:tab algn="l" pos="8683560"/>
                  <a:tab algn="l" pos="9551880"/>
                  <a:tab algn="l" pos="10420200"/>
                </a:tabLst>
              </a:pPr>
              <a:r>
                <a:rPr b="0" lang="nl-NL" sz="11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34"/>
            <p:cNvSpPr/>
            <p:nvPr/>
          </p:nvSpPr>
          <p:spPr>
            <a:xfrm>
              <a:off x="1343520" y="3139560"/>
              <a:ext cx="3362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868320"/>
                  <a:tab algn="l" pos="1736640"/>
                  <a:tab algn="l" pos="2604960"/>
                  <a:tab algn="l" pos="3473280"/>
                  <a:tab algn="l" pos="4341960"/>
                  <a:tab algn="l" pos="5210280"/>
                  <a:tab algn="l" pos="6078600"/>
                  <a:tab algn="l" pos="6946920"/>
                  <a:tab algn="l" pos="7815240"/>
                  <a:tab algn="l" pos="8683560"/>
                  <a:tab algn="l" pos="9551880"/>
                  <a:tab algn="l" pos="10420200"/>
                </a:tabLst>
              </a:pPr>
              <a:r>
                <a:rPr b="0" lang="nl-NL" sz="11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35"/>
            <p:cNvSpPr/>
            <p:nvPr/>
          </p:nvSpPr>
          <p:spPr>
            <a:xfrm>
              <a:off x="1540440" y="3489840"/>
              <a:ext cx="3362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868320"/>
                  <a:tab algn="l" pos="1736640"/>
                  <a:tab algn="l" pos="2604960"/>
                  <a:tab algn="l" pos="3473280"/>
                  <a:tab algn="l" pos="4341960"/>
                  <a:tab algn="l" pos="5210280"/>
                  <a:tab algn="l" pos="6078600"/>
                  <a:tab algn="l" pos="6946920"/>
                  <a:tab algn="l" pos="7815240"/>
                  <a:tab algn="l" pos="8683560"/>
                  <a:tab algn="l" pos="9551880"/>
                  <a:tab algn="l" pos="10420200"/>
                </a:tabLst>
              </a:pPr>
              <a:r>
                <a:rPr b="0" lang="nl-NL" sz="11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36"/>
            <p:cNvSpPr/>
            <p:nvPr/>
          </p:nvSpPr>
          <p:spPr>
            <a:xfrm>
              <a:off x="1829880" y="3773160"/>
              <a:ext cx="3362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868320"/>
                  <a:tab algn="l" pos="1736640"/>
                  <a:tab algn="l" pos="2604960"/>
                  <a:tab algn="l" pos="3473280"/>
                  <a:tab algn="l" pos="4341960"/>
                  <a:tab algn="l" pos="5210280"/>
                  <a:tab algn="l" pos="6078600"/>
                  <a:tab algn="l" pos="6946920"/>
                  <a:tab algn="l" pos="7815240"/>
                  <a:tab algn="l" pos="8683560"/>
                  <a:tab algn="l" pos="9551880"/>
                  <a:tab algn="l" pos="10420200"/>
                </a:tabLst>
              </a:pPr>
              <a:r>
                <a:rPr b="0" lang="nl-NL" sz="11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37"/>
            <p:cNvSpPr/>
            <p:nvPr/>
          </p:nvSpPr>
          <p:spPr>
            <a:xfrm>
              <a:off x="1527120" y="4016520"/>
              <a:ext cx="3362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868320"/>
                  <a:tab algn="l" pos="1736640"/>
                  <a:tab algn="l" pos="2604960"/>
                  <a:tab algn="l" pos="3473280"/>
                  <a:tab algn="l" pos="4341960"/>
                  <a:tab algn="l" pos="5210280"/>
                  <a:tab algn="l" pos="6078600"/>
                  <a:tab algn="l" pos="6946920"/>
                  <a:tab algn="l" pos="7815240"/>
                  <a:tab algn="l" pos="8683560"/>
                  <a:tab algn="l" pos="9551880"/>
                  <a:tab algn="l" pos="10420200"/>
                </a:tabLst>
              </a:pPr>
              <a:r>
                <a:rPr b="0" lang="nl-NL" sz="1100" spc="-1" strike="noStrike">
                  <a:solidFill>
                    <a:srgbClr val="000000"/>
                  </a:solidFill>
                  <a:latin typeface="Arial"/>
                </a:rPr>
                <a:t>57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38"/>
            <p:cNvSpPr/>
            <p:nvPr/>
          </p:nvSpPr>
          <p:spPr>
            <a:xfrm>
              <a:off x="1290600" y="4125240"/>
              <a:ext cx="3362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868320"/>
                  <a:tab algn="l" pos="1736640"/>
                  <a:tab algn="l" pos="2604960"/>
                  <a:tab algn="l" pos="3473280"/>
                  <a:tab algn="l" pos="4341960"/>
                  <a:tab algn="l" pos="5210280"/>
                  <a:tab algn="l" pos="6078600"/>
                  <a:tab algn="l" pos="6946920"/>
                  <a:tab algn="l" pos="7815240"/>
                  <a:tab algn="l" pos="8683560"/>
                  <a:tab algn="l" pos="9551880"/>
                  <a:tab algn="l" pos="10420200"/>
                </a:tabLst>
              </a:pPr>
              <a:r>
                <a:rPr b="0" lang="nl-NL" sz="1100" spc="-1" strike="noStrike">
                  <a:solidFill>
                    <a:srgbClr val="000000"/>
                  </a:solidFill>
                  <a:latin typeface="Arial"/>
                </a:rPr>
                <a:t>59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39"/>
            <p:cNvSpPr/>
            <p:nvPr/>
          </p:nvSpPr>
          <p:spPr>
            <a:xfrm>
              <a:off x="1077840" y="4248000"/>
              <a:ext cx="3362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868320"/>
                  <a:tab algn="l" pos="1736640"/>
                  <a:tab algn="l" pos="2604960"/>
                  <a:tab algn="l" pos="3473280"/>
                  <a:tab algn="l" pos="4341960"/>
                  <a:tab algn="l" pos="5210280"/>
                  <a:tab algn="l" pos="6078600"/>
                  <a:tab algn="l" pos="6946920"/>
                  <a:tab algn="l" pos="7815240"/>
                  <a:tab algn="l" pos="8683560"/>
                  <a:tab algn="l" pos="9551880"/>
                  <a:tab algn="l" pos="10420200"/>
                </a:tabLst>
              </a:pPr>
              <a:r>
                <a:rPr b="0" lang="nl-NL" sz="1100" spc="-1" strike="noStrike">
                  <a:solidFill>
                    <a:srgbClr val="000000"/>
                  </a:solidFill>
                  <a:latin typeface="Arial"/>
                </a:rPr>
                <a:t>6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Text Box 40"/>
          <p:cNvSpPr/>
          <p:nvPr/>
        </p:nvSpPr>
        <p:spPr>
          <a:xfrm>
            <a:off x="5768640" y="2711520"/>
            <a:ext cx="254880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Rioolbeheergegev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41"/>
          <p:cNvGrpSpPr/>
          <p:nvPr/>
        </p:nvGrpSpPr>
        <p:grpSpPr>
          <a:xfrm>
            <a:off x="2759040" y="2384280"/>
            <a:ext cx="2710440" cy="2562840"/>
            <a:chOff x="2759040" y="2384280"/>
            <a:chExt cx="2710440" cy="2562840"/>
          </a:xfrm>
        </p:grpSpPr>
        <p:sp>
          <p:nvSpPr>
            <p:cNvPr id="177" name="Freeform 42"/>
            <p:cNvSpPr/>
            <p:nvPr/>
          </p:nvSpPr>
          <p:spPr>
            <a:xfrm>
              <a:off x="3900960" y="2695680"/>
              <a:ext cx="1474560" cy="1830600"/>
            </a:xfrm>
            <a:custGeom>
              <a:avLst/>
              <a:gdLst>
                <a:gd name="textAreaLeft" fmla="*/ 0 w 1474560"/>
                <a:gd name="textAreaRight" fmla="*/ 1474920 w 1474560"/>
                <a:gd name="textAreaTop" fmla="*/ 0 h 1830600"/>
                <a:gd name="textAreaBottom" fmla="*/ 1830960 h 1830600"/>
              </a:gdLst>
              <a:ahLst/>
              <a:rect l="textAreaLeft" t="textAreaTop" r="textAreaRight" b="textAreaBottom"/>
              <a:pathLst>
                <a:path w="861" h="1046">
                  <a:moveTo>
                    <a:pt x="631" y="0"/>
                  </a:moveTo>
                  <a:lnTo>
                    <a:pt x="646" y="116"/>
                  </a:lnTo>
                  <a:lnTo>
                    <a:pt x="638" y="216"/>
                  </a:lnTo>
                  <a:lnTo>
                    <a:pt x="615" y="277"/>
                  </a:lnTo>
                  <a:lnTo>
                    <a:pt x="492" y="354"/>
                  </a:lnTo>
                  <a:lnTo>
                    <a:pt x="215" y="454"/>
                  </a:lnTo>
                  <a:lnTo>
                    <a:pt x="115" y="500"/>
                  </a:lnTo>
                  <a:lnTo>
                    <a:pt x="0" y="554"/>
                  </a:lnTo>
                  <a:lnTo>
                    <a:pt x="84" y="793"/>
                  </a:lnTo>
                  <a:lnTo>
                    <a:pt x="138" y="908"/>
                  </a:lnTo>
                  <a:lnTo>
                    <a:pt x="169" y="954"/>
                  </a:lnTo>
                  <a:lnTo>
                    <a:pt x="292" y="993"/>
                  </a:lnTo>
                  <a:lnTo>
                    <a:pt x="361" y="1039"/>
                  </a:lnTo>
                  <a:lnTo>
                    <a:pt x="415" y="1046"/>
                  </a:lnTo>
                  <a:lnTo>
                    <a:pt x="761" y="1039"/>
                  </a:lnTo>
                  <a:lnTo>
                    <a:pt x="861" y="1031"/>
                  </a:lnTo>
                </a:path>
              </a:pathLst>
            </a:custGeom>
            <a:noFill/>
            <a:ln w="38160">
              <a:solidFill>
                <a:srgbClr val="ff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43"/>
            <p:cNvSpPr/>
            <p:nvPr/>
          </p:nvSpPr>
          <p:spPr>
            <a:xfrm>
              <a:off x="2846160" y="2683440"/>
              <a:ext cx="1068480" cy="1090080"/>
            </a:xfrm>
            <a:custGeom>
              <a:avLst/>
              <a:gdLst>
                <a:gd name="textAreaLeft" fmla="*/ 0 w 1068480"/>
                <a:gd name="textAreaRight" fmla="*/ 1068840 w 1068480"/>
                <a:gd name="textAreaTop" fmla="*/ 0 h 1090080"/>
                <a:gd name="textAreaBottom" fmla="*/ 1090440 h 1090080"/>
              </a:gdLst>
              <a:ahLst/>
              <a:rect l="textAreaLeft" t="textAreaTop" r="textAreaRight" b="textAreaBottom"/>
              <a:pathLst>
                <a:path w="624" h="623">
                  <a:moveTo>
                    <a:pt x="624" y="561"/>
                  </a:moveTo>
                  <a:lnTo>
                    <a:pt x="200" y="623"/>
                  </a:lnTo>
                  <a:lnTo>
                    <a:pt x="147" y="469"/>
                  </a:lnTo>
                  <a:lnTo>
                    <a:pt x="77" y="21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44"/>
            <p:cNvSpPr/>
            <p:nvPr/>
          </p:nvSpPr>
          <p:spPr>
            <a:xfrm>
              <a:off x="3255480" y="4365360"/>
              <a:ext cx="934920" cy="458280"/>
            </a:xfrm>
            <a:custGeom>
              <a:avLst/>
              <a:gdLst>
                <a:gd name="textAreaLeft" fmla="*/ 0 w 934920"/>
                <a:gd name="textAreaRight" fmla="*/ 935280 w 934920"/>
                <a:gd name="textAreaTop" fmla="*/ 0 h 458280"/>
                <a:gd name="textAreaBottom" fmla="*/ 458640 h 458280"/>
              </a:gdLst>
              <a:ahLst/>
              <a:rect l="textAreaLeft" t="textAreaTop" r="textAreaRight" b="textAreaBottom"/>
              <a:pathLst>
                <a:path w="546" h="262">
                  <a:moveTo>
                    <a:pt x="546" y="0"/>
                  </a:moveTo>
                  <a:lnTo>
                    <a:pt x="285" y="100"/>
                  </a:lnTo>
                  <a:lnTo>
                    <a:pt x="0" y="262"/>
                  </a:lnTo>
                </a:path>
              </a:pathLst>
            </a:custGeom>
            <a:noFill/>
            <a:ln w="38160">
              <a:solidFill>
                <a:srgbClr val="ff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AutoShape 45"/>
            <p:cNvSpPr/>
            <p:nvPr/>
          </p:nvSpPr>
          <p:spPr>
            <a:xfrm>
              <a:off x="4459680" y="4432320"/>
              <a:ext cx="164160" cy="1677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AutoShape 46"/>
            <p:cNvSpPr/>
            <p:nvPr/>
          </p:nvSpPr>
          <p:spPr>
            <a:xfrm>
              <a:off x="3825720" y="3583080"/>
              <a:ext cx="164520" cy="1677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47"/>
            <p:cNvSpPr/>
            <p:nvPr/>
          </p:nvSpPr>
          <p:spPr>
            <a:xfrm>
              <a:off x="4075920" y="4283280"/>
              <a:ext cx="164520" cy="1677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48"/>
            <p:cNvSpPr/>
            <p:nvPr/>
          </p:nvSpPr>
          <p:spPr>
            <a:xfrm>
              <a:off x="4893120" y="2627280"/>
              <a:ext cx="164160" cy="1677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49"/>
            <p:cNvSpPr/>
            <p:nvPr/>
          </p:nvSpPr>
          <p:spPr>
            <a:xfrm>
              <a:off x="2759040" y="2599560"/>
              <a:ext cx="164160" cy="1677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50"/>
            <p:cNvSpPr/>
            <p:nvPr/>
          </p:nvSpPr>
          <p:spPr>
            <a:xfrm>
              <a:off x="3195720" y="4741560"/>
              <a:ext cx="164160" cy="1677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51"/>
            <p:cNvSpPr/>
            <p:nvPr/>
          </p:nvSpPr>
          <p:spPr>
            <a:xfrm>
              <a:off x="3308760" y="4685760"/>
              <a:ext cx="5695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868320"/>
                  <a:tab algn="l" pos="1736640"/>
                  <a:tab algn="l" pos="2604960"/>
                  <a:tab algn="l" pos="3473280"/>
                  <a:tab algn="l" pos="4341960"/>
                  <a:tab algn="l" pos="5210280"/>
                  <a:tab algn="l" pos="6078600"/>
                  <a:tab algn="l" pos="6946920"/>
                  <a:tab algn="l" pos="7815240"/>
                  <a:tab algn="l" pos="8683560"/>
                  <a:tab algn="l" pos="9551880"/>
                  <a:tab algn="l" pos="10420200"/>
                </a:tabLst>
              </a:pPr>
              <a:r>
                <a:rPr b="0" lang="nl-NL" sz="1100" spc="-1" strike="noStrike">
                  <a:solidFill>
                    <a:srgbClr val="ffff00"/>
                  </a:solidFill>
                  <a:latin typeface="Arial"/>
                </a:rPr>
                <a:t>2036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52"/>
            <p:cNvSpPr/>
            <p:nvPr/>
          </p:nvSpPr>
          <p:spPr>
            <a:xfrm>
              <a:off x="4150440" y="4066200"/>
              <a:ext cx="6469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868320"/>
                  <a:tab algn="l" pos="1736640"/>
                  <a:tab algn="l" pos="2604960"/>
                  <a:tab algn="l" pos="3473280"/>
                  <a:tab algn="l" pos="4341960"/>
                  <a:tab algn="l" pos="5210280"/>
                  <a:tab algn="l" pos="6078600"/>
                  <a:tab algn="l" pos="6946920"/>
                  <a:tab algn="l" pos="7815240"/>
                  <a:tab algn="l" pos="8683560"/>
                  <a:tab algn="l" pos="9551880"/>
                  <a:tab algn="l" pos="10420200"/>
                </a:tabLst>
              </a:pPr>
              <a:r>
                <a:rPr b="0" lang="nl-NL" sz="1100" spc="-1" strike="noStrike">
                  <a:solidFill>
                    <a:srgbClr val="ffff00"/>
                  </a:solidFill>
                  <a:latin typeface="Arial"/>
                </a:rPr>
                <a:t>23332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53"/>
            <p:cNvSpPr/>
            <p:nvPr/>
          </p:nvSpPr>
          <p:spPr>
            <a:xfrm>
              <a:off x="4558320" y="4228920"/>
              <a:ext cx="6469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868320"/>
                  <a:tab algn="l" pos="1736640"/>
                  <a:tab algn="l" pos="2604960"/>
                  <a:tab algn="l" pos="3473280"/>
                  <a:tab algn="l" pos="4341960"/>
                  <a:tab algn="l" pos="5210280"/>
                  <a:tab algn="l" pos="6078600"/>
                  <a:tab algn="l" pos="6946920"/>
                  <a:tab algn="l" pos="7815240"/>
                  <a:tab algn="l" pos="8683560"/>
                  <a:tab algn="l" pos="9551880"/>
                  <a:tab algn="l" pos="10420200"/>
                </a:tabLst>
              </a:pPr>
              <a:r>
                <a:rPr b="0" lang="nl-NL" sz="1100" spc="-1" strike="noStrike">
                  <a:solidFill>
                    <a:srgbClr val="ffff00"/>
                  </a:solidFill>
                  <a:latin typeface="Arial"/>
                </a:rPr>
                <a:t>20290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54"/>
            <p:cNvSpPr/>
            <p:nvPr/>
          </p:nvSpPr>
          <p:spPr>
            <a:xfrm>
              <a:off x="3937320" y="3581280"/>
              <a:ext cx="5695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868320"/>
                  <a:tab algn="l" pos="1736640"/>
                  <a:tab algn="l" pos="2604960"/>
                  <a:tab algn="l" pos="3473280"/>
                  <a:tab algn="l" pos="4341960"/>
                  <a:tab algn="l" pos="5210280"/>
                  <a:tab algn="l" pos="6078600"/>
                  <a:tab algn="l" pos="6946920"/>
                  <a:tab algn="l" pos="7815240"/>
                  <a:tab algn="l" pos="8683560"/>
                  <a:tab algn="l" pos="9551880"/>
                  <a:tab algn="l" pos="10420200"/>
                </a:tabLst>
              </a:pPr>
              <a:r>
                <a:rPr b="0" lang="nl-NL" sz="1100" spc="-1" strike="noStrike">
                  <a:solidFill>
                    <a:srgbClr val="ffff00"/>
                  </a:solidFill>
                  <a:latin typeface="Arial"/>
                </a:rPr>
                <a:t>3983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55"/>
            <p:cNvSpPr/>
            <p:nvPr/>
          </p:nvSpPr>
          <p:spPr>
            <a:xfrm>
              <a:off x="4899960" y="2384280"/>
              <a:ext cx="5695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868320"/>
                  <a:tab algn="l" pos="1736640"/>
                  <a:tab algn="l" pos="2604960"/>
                  <a:tab algn="l" pos="3473280"/>
                  <a:tab algn="l" pos="4341960"/>
                  <a:tab algn="l" pos="5210280"/>
                  <a:tab algn="l" pos="6078600"/>
                  <a:tab algn="l" pos="6946920"/>
                  <a:tab algn="l" pos="7815240"/>
                  <a:tab algn="l" pos="8683560"/>
                  <a:tab algn="l" pos="9551880"/>
                  <a:tab algn="l" pos="10420200"/>
                </a:tabLst>
              </a:pPr>
              <a:r>
                <a:rPr b="0" lang="nl-NL" sz="1100" spc="-1" strike="noStrike">
                  <a:solidFill>
                    <a:srgbClr val="ffff00"/>
                  </a:solidFill>
                  <a:latin typeface="Arial"/>
                </a:rPr>
                <a:t>2039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56"/>
            <p:cNvSpPr/>
            <p:nvPr/>
          </p:nvSpPr>
          <p:spPr>
            <a:xfrm>
              <a:off x="2856960" y="2384280"/>
              <a:ext cx="5695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868320"/>
                  <a:tab algn="l" pos="1736640"/>
                  <a:tab algn="l" pos="2604960"/>
                  <a:tab algn="l" pos="3473280"/>
                  <a:tab algn="l" pos="4341960"/>
                  <a:tab algn="l" pos="5210280"/>
                  <a:tab algn="l" pos="6078600"/>
                  <a:tab algn="l" pos="6946920"/>
                  <a:tab algn="l" pos="7815240"/>
                  <a:tab algn="l" pos="8683560"/>
                  <a:tab algn="l" pos="9551880"/>
                  <a:tab algn="l" pos="10420200"/>
                </a:tabLst>
              </a:pPr>
              <a:r>
                <a:rPr b="0" lang="nl-NL" sz="1100" spc="-1" strike="noStrike">
                  <a:solidFill>
                    <a:srgbClr val="ffff00"/>
                  </a:solidFill>
                  <a:latin typeface="Arial"/>
                </a:rPr>
                <a:t>2067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Text Box 57"/>
          <p:cNvSpPr/>
          <p:nvPr/>
        </p:nvSpPr>
        <p:spPr>
          <a:xfrm>
            <a:off x="5769000" y="3132000"/>
            <a:ext cx="268128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Groenbeheergegev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58"/>
          <p:cNvSpPr/>
          <p:nvPr/>
        </p:nvSpPr>
        <p:spPr>
          <a:xfrm>
            <a:off x="843120" y="5281560"/>
            <a:ext cx="1741320" cy="1185840"/>
          </a:xfrm>
          <a:custGeom>
            <a:avLst/>
            <a:gdLst>
              <a:gd name="textAreaLeft" fmla="*/ 0 w 1741320"/>
              <a:gd name="textAreaRight" fmla="*/ 1741680 w 1741320"/>
              <a:gd name="textAreaTop" fmla="*/ 0 h 1185840"/>
              <a:gd name="textAreaBottom" fmla="*/ 1186200 h 1185840"/>
            </a:gdLst>
            <a:ahLst/>
            <a:rect l="textAreaLeft" t="textAreaTop" r="textAreaRight" b="textAreaBottom"/>
            <a:pathLst>
              <a:path w="1016" h="677">
                <a:moveTo>
                  <a:pt x="0" y="492"/>
                </a:moveTo>
                <a:lnTo>
                  <a:pt x="316" y="354"/>
                </a:lnTo>
                <a:lnTo>
                  <a:pt x="808" y="93"/>
                </a:lnTo>
                <a:lnTo>
                  <a:pt x="969" y="0"/>
                </a:lnTo>
                <a:lnTo>
                  <a:pt x="1016" y="69"/>
                </a:lnTo>
                <a:lnTo>
                  <a:pt x="800" y="239"/>
                </a:lnTo>
                <a:lnTo>
                  <a:pt x="546" y="416"/>
                </a:lnTo>
                <a:lnTo>
                  <a:pt x="69" y="677"/>
                </a:lnTo>
                <a:lnTo>
                  <a:pt x="0" y="492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59"/>
          <p:cNvSpPr/>
          <p:nvPr/>
        </p:nvSpPr>
        <p:spPr>
          <a:xfrm>
            <a:off x="1965240" y="6143760"/>
            <a:ext cx="696960" cy="564840"/>
          </a:xfrm>
          <a:custGeom>
            <a:avLst/>
            <a:gdLst>
              <a:gd name="textAreaLeft" fmla="*/ 0 w 696960"/>
              <a:gd name="textAreaRight" fmla="*/ 696960 w 696960"/>
              <a:gd name="textAreaTop" fmla="*/ 0 h 564840"/>
              <a:gd name="textAreaBottom" fmla="*/ 565200 h 564840"/>
            </a:gdLst>
            <a:ahLst/>
            <a:rect l="textAreaLeft" t="textAreaTop" r="textAreaRight" b="textAreaBottom"/>
            <a:pathLst>
              <a:path w="408" h="323">
                <a:moveTo>
                  <a:pt x="0" y="162"/>
                </a:moveTo>
                <a:lnTo>
                  <a:pt x="300" y="0"/>
                </a:lnTo>
                <a:lnTo>
                  <a:pt x="354" y="31"/>
                </a:lnTo>
                <a:lnTo>
                  <a:pt x="408" y="154"/>
                </a:lnTo>
                <a:lnTo>
                  <a:pt x="192" y="277"/>
                </a:lnTo>
                <a:lnTo>
                  <a:pt x="77" y="323"/>
                </a:lnTo>
                <a:lnTo>
                  <a:pt x="0" y="162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60"/>
          <p:cNvSpPr/>
          <p:nvPr/>
        </p:nvSpPr>
        <p:spPr>
          <a:xfrm>
            <a:off x="4861080" y="2994120"/>
            <a:ext cx="436320" cy="766800"/>
          </a:xfrm>
          <a:custGeom>
            <a:avLst/>
            <a:gdLst>
              <a:gd name="textAreaLeft" fmla="*/ 0 w 436320"/>
              <a:gd name="textAreaRight" fmla="*/ 436680 w 436320"/>
              <a:gd name="textAreaTop" fmla="*/ 0 h 766800"/>
              <a:gd name="textAreaBottom" fmla="*/ 767160 h 766800"/>
            </a:gdLst>
            <a:ahLst/>
            <a:rect l="textAreaLeft" t="textAreaTop" r="textAreaRight" b="textAreaBottom"/>
            <a:pathLst>
              <a:path w="255" h="438">
                <a:moveTo>
                  <a:pt x="109" y="438"/>
                </a:moveTo>
                <a:lnTo>
                  <a:pt x="0" y="173"/>
                </a:lnTo>
                <a:lnTo>
                  <a:pt x="52" y="140"/>
                </a:lnTo>
                <a:lnTo>
                  <a:pt x="117" y="38"/>
                </a:lnTo>
                <a:lnTo>
                  <a:pt x="248" y="0"/>
                </a:lnTo>
                <a:lnTo>
                  <a:pt x="255" y="392"/>
                </a:lnTo>
                <a:lnTo>
                  <a:pt x="109" y="438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61"/>
          <p:cNvSpPr/>
          <p:nvPr/>
        </p:nvSpPr>
        <p:spPr>
          <a:xfrm>
            <a:off x="5761080" y="3552840"/>
            <a:ext cx="249408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Wegbeheergegev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62"/>
          <p:cNvSpPr/>
          <p:nvPr/>
        </p:nvSpPr>
        <p:spPr>
          <a:xfrm>
            <a:off x="2452680" y="4164120"/>
            <a:ext cx="1606680" cy="1022400"/>
          </a:xfrm>
          <a:custGeom>
            <a:avLst/>
            <a:gdLst>
              <a:gd name="textAreaLeft" fmla="*/ 0 w 1606680"/>
              <a:gd name="textAreaRight" fmla="*/ 1607040 w 1606680"/>
              <a:gd name="textAreaTop" fmla="*/ 0 h 1022400"/>
              <a:gd name="textAreaBottom" fmla="*/ 1022760 h 1022400"/>
            </a:gdLst>
            <a:ahLst/>
            <a:rect l="textAreaLeft" t="textAreaTop" r="textAreaRight" b="textAreaBottom"/>
            <a:pathLst>
              <a:path w="938" h="584">
                <a:moveTo>
                  <a:pt x="0" y="554"/>
                </a:moveTo>
                <a:lnTo>
                  <a:pt x="61" y="446"/>
                </a:lnTo>
                <a:lnTo>
                  <a:pt x="192" y="369"/>
                </a:lnTo>
                <a:lnTo>
                  <a:pt x="353" y="315"/>
                </a:lnTo>
                <a:lnTo>
                  <a:pt x="353" y="238"/>
                </a:lnTo>
                <a:lnTo>
                  <a:pt x="892" y="0"/>
                </a:lnTo>
                <a:lnTo>
                  <a:pt x="938" y="131"/>
                </a:lnTo>
                <a:lnTo>
                  <a:pt x="723" y="207"/>
                </a:lnTo>
                <a:lnTo>
                  <a:pt x="507" y="331"/>
                </a:lnTo>
                <a:lnTo>
                  <a:pt x="438" y="323"/>
                </a:lnTo>
                <a:lnTo>
                  <a:pt x="284" y="400"/>
                </a:lnTo>
                <a:lnTo>
                  <a:pt x="184" y="492"/>
                </a:lnTo>
                <a:lnTo>
                  <a:pt x="77" y="584"/>
                </a:lnTo>
                <a:lnTo>
                  <a:pt x="0" y="554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63"/>
          <p:cNvSpPr/>
          <p:nvPr/>
        </p:nvSpPr>
        <p:spPr>
          <a:xfrm>
            <a:off x="639720" y="5133960"/>
            <a:ext cx="1930320" cy="1171440"/>
          </a:xfrm>
          <a:custGeom>
            <a:avLst/>
            <a:gdLst>
              <a:gd name="textAreaLeft" fmla="*/ 0 w 1930320"/>
              <a:gd name="textAreaRight" fmla="*/ 1930680 w 1930320"/>
              <a:gd name="textAreaTop" fmla="*/ 0 h 1171440"/>
              <a:gd name="textAreaBottom" fmla="*/ 1171800 h 1171440"/>
            </a:gdLst>
            <a:ahLst/>
            <a:rect l="textAreaLeft" t="textAreaTop" r="textAreaRight" b="textAreaBottom"/>
            <a:pathLst>
              <a:path w="1127" h="669">
                <a:moveTo>
                  <a:pt x="0" y="539"/>
                </a:moveTo>
                <a:lnTo>
                  <a:pt x="427" y="353"/>
                </a:lnTo>
                <a:lnTo>
                  <a:pt x="850" y="107"/>
                </a:lnTo>
                <a:lnTo>
                  <a:pt x="1058" y="0"/>
                </a:lnTo>
                <a:lnTo>
                  <a:pt x="1127" y="30"/>
                </a:lnTo>
                <a:lnTo>
                  <a:pt x="1104" y="77"/>
                </a:lnTo>
                <a:lnTo>
                  <a:pt x="558" y="369"/>
                </a:lnTo>
                <a:lnTo>
                  <a:pt x="119" y="576"/>
                </a:lnTo>
                <a:lnTo>
                  <a:pt x="4" y="669"/>
                </a:lnTo>
                <a:lnTo>
                  <a:pt x="0" y="539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64"/>
          <p:cNvSpPr/>
          <p:nvPr/>
        </p:nvSpPr>
        <p:spPr>
          <a:xfrm>
            <a:off x="2859120" y="4890960"/>
            <a:ext cx="1266840" cy="2505240"/>
          </a:xfrm>
          <a:custGeom>
            <a:avLst/>
            <a:gdLst>
              <a:gd name="textAreaLeft" fmla="*/ 0 w 1266840"/>
              <a:gd name="textAreaRight" fmla="*/ 1266840 w 1266840"/>
              <a:gd name="textAreaTop" fmla="*/ 0 h 2505240"/>
              <a:gd name="textAreaBottom" fmla="*/ 2505600 h 2505240"/>
            </a:gdLst>
            <a:ahLst/>
            <a:rect l="textAreaLeft" t="textAreaTop" r="textAreaRight" b="textAreaBottom"/>
            <a:pathLst>
              <a:path w="739" h="1431">
                <a:moveTo>
                  <a:pt x="0" y="31"/>
                </a:moveTo>
                <a:lnTo>
                  <a:pt x="469" y="992"/>
                </a:lnTo>
                <a:lnTo>
                  <a:pt x="654" y="1431"/>
                </a:lnTo>
                <a:lnTo>
                  <a:pt x="739" y="1431"/>
                </a:lnTo>
                <a:lnTo>
                  <a:pt x="454" y="831"/>
                </a:lnTo>
                <a:lnTo>
                  <a:pt x="215" y="323"/>
                </a:lnTo>
                <a:lnTo>
                  <a:pt x="39" y="0"/>
                </a:lnTo>
                <a:lnTo>
                  <a:pt x="0" y="31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65"/>
          <p:cNvSpPr/>
          <p:nvPr/>
        </p:nvSpPr>
        <p:spPr>
          <a:xfrm>
            <a:off x="5742360" y="3971880"/>
            <a:ext cx="190260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Milieugegev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66"/>
          <p:cNvSpPr/>
          <p:nvPr/>
        </p:nvSpPr>
        <p:spPr>
          <a:xfrm>
            <a:off x="639720" y="4649760"/>
            <a:ext cx="4243320" cy="2754360"/>
          </a:xfrm>
          <a:custGeom>
            <a:avLst/>
            <a:gdLst>
              <a:gd name="textAreaLeft" fmla="*/ 0 w 4243320"/>
              <a:gd name="textAreaRight" fmla="*/ 4243680 w 4243320"/>
              <a:gd name="textAreaTop" fmla="*/ 0 h 2754360"/>
              <a:gd name="textAreaBottom" fmla="*/ 2754720 h 2754360"/>
            </a:gdLst>
            <a:ahLst/>
            <a:rect l="textAreaLeft" t="textAreaTop" r="textAreaRight" b="textAreaBottom"/>
            <a:pathLst>
              <a:path w="2477" h="1573">
                <a:moveTo>
                  <a:pt x="0" y="243"/>
                </a:moveTo>
                <a:cubicBezTo>
                  <a:pt x="54" y="224"/>
                  <a:pt x="30" y="232"/>
                  <a:pt x="69" y="220"/>
                </a:cubicBezTo>
                <a:cubicBezTo>
                  <a:pt x="130" y="177"/>
                  <a:pt x="205" y="165"/>
                  <a:pt x="277" y="158"/>
                </a:cubicBezTo>
                <a:cubicBezTo>
                  <a:pt x="349" y="141"/>
                  <a:pt x="500" y="166"/>
                  <a:pt x="500" y="166"/>
                </a:cubicBezTo>
                <a:cubicBezTo>
                  <a:pt x="559" y="178"/>
                  <a:pt x="548" y="193"/>
                  <a:pt x="592" y="220"/>
                </a:cubicBezTo>
                <a:cubicBezTo>
                  <a:pt x="606" y="228"/>
                  <a:pt x="623" y="230"/>
                  <a:pt x="638" y="235"/>
                </a:cubicBezTo>
                <a:cubicBezTo>
                  <a:pt x="653" y="234"/>
                  <a:pt x="730" y="242"/>
                  <a:pt x="754" y="212"/>
                </a:cubicBezTo>
                <a:cubicBezTo>
                  <a:pt x="759" y="206"/>
                  <a:pt x="757" y="196"/>
                  <a:pt x="761" y="189"/>
                </a:cubicBezTo>
                <a:cubicBezTo>
                  <a:pt x="765" y="181"/>
                  <a:pt x="771" y="173"/>
                  <a:pt x="777" y="166"/>
                </a:cubicBezTo>
                <a:cubicBezTo>
                  <a:pt x="796" y="144"/>
                  <a:pt x="846" y="112"/>
                  <a:pt x="846" y="112"/>
                </a:cubicBezTo>
                <a:cubicBezTo>
                  <a:pt x="871" y="74"/>
                  <a:pt x="912" y="58"/>
                  <a:pt x="954" y="43"/>
                </a:cubicBezTo>
                <a:cubicBezTo>
                  <a:pt x="994" y="0"/>
                  <a:pt x="1057" y="26"/>
                  <a:pt x="1107" y="43"/>
                </a:cubicBezTo>
                <a:cubicBezTo>
                  <a:pt x="1140" y="90"/>
                  <a:pt x="1184" y="126"/>
                  <a:pt x="1215" y="174"/>
                </a:cubicBezTo>
                <a:cubicBezTo>
                  <a:pt x="1218" y="184"/>
                  <a:pt x="1218" y="195"/>
                  <a:pt x="1223" y="204"/>
                </a:cubicBezTo>
                <a:cubicBezTo>
                  <a:pt x="1226" y="211"/>
                  <a:pt x="1235" y="213"/>
                  <a:pt x="1238" y="220"/>
                </a:cubicBezTo>
                <a:cubicBezTo>
                  <a:pt x="1255" y="254"/>
                  <a:pt x="1255" y="288"/>
                  <a:pt x="1277" y="320"/>
                </a:cubicBezTo>
                <a:cubicBezTo>
                  <a:pt x="1294" y="394"/>
                  <a:pt x="1298" y="469"/>
                  <a:pt x="1315" y="543"/>
                </a:cubicBezTo>
                <a:cubicBezTo>
                  <a:pt x="1341" y="653"/>
                  <a:pt x="1345" y="751"/>
                  <a:pt x="1477" y="781"/>
                </a:cubicBezTo>
                <a:cubicBezTo>
                  <a:pt x="1554" y="822"/>
                  <a:pt x="1770" y="773"/>
                  <a:pt x="1869" y="766"/>
                </a:cubicBezTo>
                <a:cubicBezTo>
                  <a:pt x="1969" y="771"/>
                  <a:pt x="2078" y="768"/>
                  <a:pt x="2177" y="789"/>
                </a:cubicBezTo>
                <a:cubicBezTo>
                  <a:pt x="2229" y="800"/>
                  <a:pt x="2279" y="822"/>
                  <a:pt x="2331" y="835"/>
                </a:cubicBezTo>
                <a:cubicBezTo>
                  <a:pt x="2348" y="861"/>
                  <a:pt x="2400" y="897"/>
                  <a:pt x="2400" y="897"/>
                </a:cubicBezTo>
                <a:cubicBezTo>
                  <a:pt x="2422" y="929"/>
                  <a:pt x="2446" y="961"/>
                  <a:pt x="2461" y="997"/>
                </a:cubicBezTo>
                <a:cubicBezTo>
                  <a:pt x="2467" y="1012"/>
                  <a:pt x="2477" y="1043"/>
                  <a:pt x="2477" y="1043"/>
                </a:cubicBezTo>
                <a:cubicBezTo>
                  <a:pt x="2467" y="1135"/>
                  <a:pt x="2451" y="1198"/>
                  <a:pt x="2354" y="1227"/>
                </a:cubicBezTo>
                <a:cubicBezTo>
                  <a:pt x="2319" y="1262"/>
                  <a:pt x="2361" y="1224"/>
                  <a:pt x="2308" y="1258"/>
                </a:cubicBezTo>
                <a:cubicBezTo>
                  <a:pt x="2266" y="1286"/>
                  <a:pt x="2323" y="1261"/>
                  <a:pt x="2269" y="1289"/>
                </a:cubicBezTo>
                <a:cubicBezTo>
                  <a:pt x="2237" y="1306"/>
                  <a:pt x="2204" y="1316"/>
                  <a:pt x="2169" y="1327"/>
                </a:cubicBezTo>
                <a:cubicBezTo>
                  <a:pt x="2098" y="1376"/>
                  <a:pt x="2005" y="1369"/>
                  <a:pt x="1923" y="1373"/>
                </a:cubicBezTo>
                <a:cubicBezTo>
                  <a:pt x="1882" y="1387"/>
                  <a:pt x="1841" y="1398"/>
                  <a:pt x="1800" y="1412"/>
                </a:cubicBezTo>
                <a:cubicBezTo>
                  <a:pt x="1795" y="1417"/>
                  <a:pt x="1790" y="1423"/>
                  <a:pt x="1784" y="1427"/>
                </a:cubicBezTo>
                <a:cubicBezTo>
                  <a:pt x="1777" y="1431"/>
                  <a:pt x="1767" y="1430"/>
                  <a:pt x="1761" y="1435"/>
                </a:cubicBezTo>
                <a:cubicBezTo>
                  <a:pt x="1744" y="1448"/>
                  <a:pt x="1715" y="1481"/>
                  <a:pt x="1715" y="1481"/>
                </a:cubicBezTo>
                <a:cubicBezTo>
                  <a:pt x="1697" y="1540"/>
                  <a:pt x="1722" y="1472"/>
                  <a:pt x="1692" y="1520"/>
                </a:cubicBezTo>
                <a:cubicBezTo>
                  <a:pt x="1681" y="1538"/>
                  <a:pt x="1685" y="1559"/>
                  <a:pt x="1669" y="1573"/>
                </a:cubicBezTo>
              </a:path>
            </a:pathLst>
          </a:custGeom>
          <a:noFill/>
          <a:ln w="34920">
            <a:solidFill>
              <a:srgbClr val="00ffff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67"/>
          <p:cNvSpPr/>
          <p:nvPr/>
        </p:nvSpPr>
        <p:spPr>
          <a:xfrm>
            <a:off x="647640" y="6035760"/>
            <a:ext cx="2278080" cy="1373040"/>
          </a:xfrm>
          <a:custGeom>
            <a:avLst/>
            <a:gdLst>
              <a:gd name="textAreaLeft" fmla="*/ 0 w 2278080"/>
              <a:gd name="textAreaRight" fmla="*/ 2278440 w 2278080"/>
              <a:gd name="textAreaTop" fmla="*/ 0 h 1373040"/>
              <a:gd name="textAreaBottom" fmla="*/ 1373400 h 1373040"/>
            </a:gdLst>
            <a:ahLst/>
            <a:rect l="textAreaLeft" t="textAreaTop" r="textAreaRight" b="textAreaBottom"/>
            <a:pathLst>
              <a:path w="1331" h="784">
                <a:moveTo>
                  <a:pt x="0" y="300"/>
                </a:moveTo>
                <a:cubicBezTo>
                  <a:pt x="33" y="303"/>
                  <a:pt x="67" y="308"/>
                  <a:pt x="100" y="308"/>
                </a:cubicBezTo>
                <a:cubicBezTo>
                  <a:pt x="151" y="308"/>
                  <a:pt x="203" y="304"/>
                  <a:pt x="254" y="300"/>
                </a:cubicBezTo>
                <a:cubicBezTo>
                  <a:pt x="342" y="292"/>
                  <a:pt x="471" y="206"/>
                  <a:pt x="523" y="138"/>
                </a:cubicBezTo>
                <a:cubicBezTo>
                  <a:pt x="544" y="111"/>
                  <a:pt x="556" y="88"/>
                  <a:pt x="584" y="69"/>
                </a:cubicBezTo>
                <a:cubicBezTo>
                  <a:pt x="611" y="31"/>
                  <a:pt x="641" y="15"/>
                  <a:pt x="684" y="0"/>
                </a:cubicBezTo>
                <a:cubicBezTo>
                  <a:pt x="756" y="5"/>
                  <a:pt x="786" y="8"/>
                  <a:pt x="846" y="23"/>
                </a:cubicBezTo>
                <a:cubicBezTo>
                  <a:pt x="869" y="29"/>
                  <a:pt x="915" y="38"/>
                  <a:pt x="915" y="38"/>
                </a:cubicBezTo>
                <a:cubicBezTo>
                  <a:pt x="954" y="77"/>
                  <a:pt x="959" y="126"/>
                  <a:pt x="977" y="177"/>
                </a:cubicBezTo>
                <a:cubicBezTo>
                  <a:pt x="993" y="223"/>
                  <a:pt x="1041" y="233"/>
                  <a:pt x="1077" y="254"/>
                </a:cubicBezTo>
                <a:cubicBezTo>
                  <a:pt x="1141" y="290"/>
                  <a:pt x="1073" y="268"/>
                  <a:pt x="1138" y="285"/>
                </a:cubicBezTo>
                <a:cubicBezTo>
                  <a:pt x="1195" y="322"/>
                  <a:pt x="1123" y="278"/>
                  <a:pt x="1192" y="308"/>
                </a:cubicBezTo>
                <a:cubicBezTo>
                  <a:pt x="1217" y="319"/>
                  <a:pt x="1228" y="337"/>
                  <a:pt x="1254" y="346"/>
                </a:cubicBezTo>
                <a:cubicBezTo>
                  <a:pt x="1286" y="379"/>
                  <a:pt x="1316" y="410"/>
                  <a:pt x="1331" y="454"/>
                </a:cubicBezTo>
                <a:cubicBezTo>
                  <a:pt x="1325" y="472"/>
                  <a:pt x="1325" y="492"/>
                  <a:pt x="1315" y="508"/>
                </a:cubicBezTo>
                <a:cubicBezTo>
                  <a:pt x="1306" y="521"/>
                  <a:pt x="1274" y="530"/>
                  <a:pt x="1261" y="531"/>
                </a:cubicBezTo>
                <a:cubicBezTo>
                  <a:pt x="1210" y="535"/>
                  <a:pt x="1158" y="536"/>
                  <a:pt x="1107" y="538"/>
                </a:cubicBezTo>
                <a:cubicBezTo>
                  <a:pt x="1049" y="558"/>
                  <a:pt x="976" y="562"/>
                  <a:pt x="923" y="592"/>
                </a:cubicBezTo>
                <a:cubicBezTo>
                  <a:pt x="889" y="611"/>
                  <a:pt x="867" y="634"/>
                  <a:pt x="831" y="646"/>
                </a:cubicBezTo>
                <a:cubicBezTo>
                  <a:pt x="802" y="673"/>
                  <a:pt x="779" y="701"/>
                  <a:pt x="754" y="731"/>
                </a:cubicBezTo>
                <a:cubicBezTo>
                  <a:pt x="739" y="750"/>
                  <a:pt x="723" y="758"/>
                  <a:pt x="723" y="784"/>
                </a:cubicBezTo>
              </a:path>
            </a:pathLst>
          </a:custGeom>
          <a:noFill/>
          <a:ln w="44280">
            <a:solidFill>
              <a:srgbClr val="00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68"/>
          <p:cNvSpPr/>
          <p:nvPr/>
        </p:nvSpPr>
        <p:spPr>
          <a:xfrm>
            <a:off x="5768640" y="4392720"/>
            <a:ext cx="184176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WOZ-gegev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69"/>
          <p:cNvSpPr/>
          <p:nvPr/>
        </p:nvSpPr>
        <p:spPr>
          <a:xfrm>
            <a:off x="3954600" y="4959360"/>
            <a:ext cx="539640" cy="485640"/>
          </a:xfrm>
          <a:custGeom>
            <a:avLst/>
            <a:gdLst>
              <a:gd name="textAreaLeft" fmla="*/ 0 w 539640"/>
              <a:gd name="textAreaRight" fmla="*/ 540000 w 53964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315" h="277">
                <a:moveTo>
                  <a:pt x="0" y="77"/>
                </a:moveTo>
                <a:lnTo>
                  <a:pt x="215" y="0"/>
                </a:lnTo>
                <a:lnTo>
                  <a:pt x="246" y="100"/>
                </a:lnTo>
                <a:lnTo>
                  <a:pt x="315" y="184"/>
                </a:lnTo>
                <a:lnTo>
                  <a:pt x="84" y="277"/>
                </a:lnTo>
                <a:lnTo>
                  <a:pt x="0" y="77"/>
                </a:lnTo>
                <a:close/>
              </a:path>
            </a:pathLst>
          </a:custGeom>
          <a:solidFill>
            <a:srgbClr val="ffcc99">
              <a:alpha val="50000"/>
            </a:srgbClr>
          </a:solidFill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70"/>
          <p:cNvSpPr/>
          <p:nvPr/>
        </p:nvSpPr>
        <p:spPr>
          <a:xfrm>
            <a:off x="4232160" y="5551560"/>
            <a:ext cx="540000" cy="484200"/>
          </a:xfrm>
          <a:custGeom>
            <a:avLst/>
            <a:gdLst>
              <a:gd name="textAreaLeft" fmla="*/ 0 w 540000"/>
              <a:gd name="textAreaRight" fmla="*/ 540360 w 54000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315" h="277">
                <a:moveTo>
                  <a:pt x="0" y="77"/>
                </a:moveTo>
                <a:lnTo>
                  <a:pt x="215" y="0"/>
                </a:lnTo>
                <a:lnTo>
                  <a:pt x="246" y="100"/>
                </a:lnTo>
                <a:lnTo>
                  <a:pt x="315" y="184"/>
                </a:lnTo>
                <a:lnTo>
                  <a:pt x="84" y="277"/>
                </a:lnTo>
                <a:lnTo>
                  <a:pt x="0" y="77"/>
                </a:lnTo>
                <a:close/>
              </a:path>
            </a:pathLst>
          </a:custGeom>
          <a:solidFill>
            <a:srgbClr val="ffcc99">
              <a:alpha val="50000"/>
            </a:srgbClr>
          </a:solidFill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71"/>
          <p:cNvSpPr/>
          <p:nvPr/>
        </p:nvSpPr>
        <p:spPr>
          <a:xfrm>
            <a:off x="4111560" y="5214960"/>
            <a:ext cx="671400" cy="457200"/>
          </a:xfrm>
          <a:custGeom>
            <a:avLst/>
            <a:gdLst>
              <a:gd name="textAreaLeft" fmla="*/ 0 w 671400"/>
              <a:gd name="textAreaRight" fmla="*/ 671760 w 6714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392" h="261">
                <a:moveTo>
                  <a:pt x="0" y="131"/>
                </a:moveTo>
                <a:lnTo>
                  <a:pt x="69" y="261"/>
                </a:lnTo>
                <a:lnTo>
                  <a:pt x="292" y="192"/>
                </a:lnTo>
                <a:lnTo>
                  <a:pt x="392" y="138"/>
                </a:lnTo>
                <a:lnTo>
                  <a:pt x="300" y="0"/>
                </a:lnTo>
                <a:lnTo>
                  <a:pt x="223" y="38"/>
                </a:lnTo>
                <a:lnTo>
                  <a:pt x="0" y="131"/>
                </a:lnTo>
                <a:close/>
              </a:path>
            </a:pathLst>
          </a:custGeom>
          <a:solidFill>
            <a:srgbClr val="ffcc99">
              <a:alpha val="50000"/>
            </a:srgbClr>
          </a:solidFill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72"/>
          <p:cNvSpPr/>
          <p:nvPr/>
        </p:nvSpPr>
        <p:spPr>
          <a:xfrm>
            <a:off x="3360600" y="5214960"/>
            <a:ext cx="671760" cy="457200"/>
          </a:xfrm>
          <a:custGeom>
            <a:avLst/>
            <a:gdLst>
              <a:gd name="textAreaLeft" fmla="*/ 0 w 671760"/>
              <a:gd name="textAreaRight" fmla="*/ 672120 w 6717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392" h="261">
                <a:moveTo>
                  <a:pt x="0" y="131"/>
                </a:moveTo>
                <a:lnTo>
                  <a:pt x="69" y="261"/>
                </a:lnTo>
                <a:lnTo>
                  <a:pt x="292" y="192"/>
                </a:lnTo>
                <a:lnTo>
                  <a:pt x="392" y="138"/>
                </a:lnTo>
                <a:lnTo>
                  <a:pt x="300" y="0"/>
                </a:lnTo>
                <a:lnTo>
                  <a:pt x="223" y="38"/>
                </a:lnTo>
                <a:lnTo>
                  <a:pt x="0" y="131"/>
                </a:lnTo>
                <a:close/>
              </a:path>
            </a:pathLst>
          </a:custGeom>
          <a:solidFill>
            <a:srgbClr val="ffcc99">
              <a:alpha val="50000"/>
            </a:srgbClr>
          </a:solidFill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73"/>
          <p:cNvSpPr/>
          <p:nvPr/>
        </p:nvSpPr>
        <p:spPr>
          <a:xfrm>
            <a:off x="3465360" y="5492880"/>
            <a:ext cx="671760" cy="457200"/>
          </a:xfrm>
          <a:custGeom>
            <a:avLst/>
            <a:gdLst>
              <a:gd name="textAreaLeft" fmla="*/ 0 w 671760"/>
              <a:gd name="textAreaRight" fmla="*/ 672120 w 6717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392" h="261">
                <a:moveTo>
                  <a:pt x="0" y="102"/>
                </a:moveTo>
                <a:lnTo>
                  <a:pt x="69" y="261"/>
                </a:lnTo>
                <a:lnTo>
                  <a:pt x="292" y="192"/>
                </a:lnTo>
                <a:lnTo>
                  <a:pt x="392" y="138"/>
                </a:lnTo>
                <a:lnTo>
                  <a:pt x="300" y="0"/>
                </a:lnTo>
                <a:lnTo>
                  <a:pt x="223" y="38"/>
                </a:lnTo>
                <a:lnTo>
                  <a:pt x="0" y="102"/>
                </a:lnTo>
                <a:close/>
              </a:path>
            </a:pathLst>
          </a:custGeom>
          <a:solidFill>
            <a:srgbClr val="ffcc99">
              <a:alpha val="50000"/>
            </a:srgbClr>
          </a:solidFill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4"/>
          <p:cNvSpPr/>
          <p:nvPr/>
        </p:nvSpPr>
        <p:spPr>
          <a:xfrm>
            <a:off x="5767560" y="4813200"/>
            <a:ext cx="224568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Belastinggegev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75"/>
          <p:cNvSpPr/>
          <p:nvPr/>
        </p:nvSpPr>
        <p:spPr>
          <a:xfrm>
            <a:off x="2979720" y="6665760"/>
            <a:ext cx="81000" cy="84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7920" bIns="7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76"/>
          <p:cNvSpPr/>
          <p:nvPr/>
        </p:nvSpPr>
        <p:spPr>
          <a:xfrm>
            <a:off x="2901960" y="6505560"/>
            <a:ext cx="81000" cy="84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7920" bIns="7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77"/>
          <p:cNvSpPr/>
          <p:nvPr/>
        </p:nvSpPr>
        <p:spPr>
          <a:xfrm>
            <a:off x="2822400" y="6342120"/>
            <a:ext cx="81000" cy="84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7920" bIns="7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78"/>
          <p:cNvSpPr/>
          <p:nvPr/>
        </p:nvSpPr>
        <p:spPr>
          <a:xfrm>
            <a:off x="2743200" y="6181560"/>
            <a:ext cx="82440" cy="84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7920" bIns="7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79"/>
          <p:cNvSpPr/>
          <p:nvPr/>
        </p:nvSpPr>
        <p:spPr>
          <a:xfrm>
            <a:off x="2676600" y="5992920"/>
            <a:ext cx="82440" cy="83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7560" bIns="7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80"/>
          <p:cNvSpPr/>
          <p:nvPr/>
        </p:nvSpPr>
        <p:spPr>
          <a:xfrm>
            <a:off x="2322360" y="5010120"/>
            <a:ext cx="82800" cy="84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7920" bIns="7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81"/>
          <p:cNvSpPr/>
          <p:nvPr/>
        </p:nvSpPr>
        <p:spPr>
          <a:xfrm>
            <a:off x="2214720" y="5076720"/>
            <a:ext cx="83880" cy="84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7920" bIns="7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82"/>
          <p:cNvSpPr/>
          <p:nvPr/>
        </p:nvSpPr>
        <p:spPr>
          <a:xfrm>
            <a:off x="2098800" y="5157720"/>
            <a:ext cx="81000" cy="84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7920" bIns="7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83"/>
          <p:cNvSpPr/>
          <p:nvPr/>
        </p:nvSpPr>
        <p:spPr>
          <a:xfrm>
            <a:off x="1979640" y="5226120"/>
            <a:ext cx="81000" cy="84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7920" bIns="7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84"/>
          <p:cNvSpPr/>
          <p:nvPr/>
        </p:nvSpPr>
        <p:spPr>
          <a:xfrm>
            <a:off x="3087720" y="5008680"/>
            <a:ext cx="81000" cy="83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7560" bIns="7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85"/>
          <p:cNvSpPr/>
          <p:nvPr/>
        </p:nvSpPr>
        <p:spPr>
          <a:xfrm>
            <a:off x="3138480" y="5143680"/>
            <a:ext cx="82440" cy="83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7560" bIns="7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86"/>
          <p:cNvSpPr/>
          <p:nvPr/>
        </p:nvSpPr>
        <p:spPr>
          <a:xfrm>
            <a:off x="3191040" y="5265720"/>
            <a:ext cx="83880" cy="84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7920" bIns="7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87"/>
          <p:cNvSpPr/>
          <p:nvPr/>
        </p:nvSpPr>
        <p:spPr>
          <a:xfrm>
            <a:off x="2506680" y="4297320"/>
            <a:ext cx="82440" cy="84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7920" bIns="7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88"/>
          <p:cNvSpPr/>
          <p:nvPr/>
        </p:nvSpPr>
        <p:spPr>
          <a:xfrm>
            <a:off x="2374920" y="4390920"/>
            <a:ext cx="81000" cy="84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7920" bIns="7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89"/>
          <p:cNvSpPr/>
          <p:nvPr/>
        </p:nvSpPr>
        <p:spPr>
          <a:xfrm>
            <a:off x="5775120" y="5232240"/>
            <a:ext cx="241164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Bevolkingsgegev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90"/>
          <p:cNvSpPr/>
          <p:nvPr/>
        </p:nvSpPr>
        <p:spPr>
          <a:xfrm>
            <a:off x="3879720" y="4619520"/>
            <a:ext cx="163800" cy="168480"/>
          </a:xfrm>
          <a:prstGeom prst="octagon">
            <a:avLst>
              <a:gd name="adj" fmla="val 29287"/>
            </a:avLst>
          </a:prstGeom>
          <a:solidFill>
            <a:srgbClr val="00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91"/>
          <p:cNvSpPr/>
          <p:nvPr/>
        </p:nvSpPr>
        <p:spPr>
          <a:xfrm>
            <a:off x="4154400" y="4565520"/>
            <a:ext cx="165240" cy="168480"/>
          </a:xfrm>
          <a:prstGeom prst="octagon">
            <a:avLst>
              <a:gd name="adj" fmla="val 29287"/>
            </a:avLst>
          </a:prstGeom>
          <a:solidFill>
            <a:srgbClr val="00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92"/>
          <p:cNvSpPr/>
          <p:nvPr/>
        </p:nvSpPr>
        <p:spPr>
          <a:xfrm>
            <a:off x="4378320" y="4713120"/>
            <a:ext cx="165240" cy="166680"/>
          </a:xfrm>
          <a:prstGeom prst="octagon">
            <a:avLst>
              <a:gd name="adj" fmla="val 29287"/>
            </a:avLst>
          </a:prstGeom>
          <a:solidFill>
            <a:srgbClr val="00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93"/>
          <p:cNvSpPr/>
          <p:nvPr/>
        </p:nvSpPr>
        <p:spPr>
          <a:xfrm>
            <a:off x="4484520" y="4956120"/>
            <a:ext cx="165240" cy="168480"/>
          </a:xfrm>
          <a:prstGeom prst="octagon">
            <a:avLst>
              <a:gd name="adj" fmla="val 29287"/>
            </a:avLst>
          </a:prstGeom>
          <a:solidFill>
            <a:srgbClr val="00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94"/>
          <p:cNvSpPr/>
          <p:nvPr/>
        </p:nvSpPr>
        <p:spPr>
          <a:xfrm>
            <a:off x="3681360" y="6153120"/>
            <a:ext cx="165240" cy="168480"/>
          </a:xfrm>
          <a:prstGeom prst="octagon">
            <a:avLst>
              <a:gd name="adj" fmla="val 29287"/>
            </a:avLst>
          </a:prstGeom>
          <a:solidFill>
            <a:srgbClr val="00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95"/>
          <p:cNvSpPr/>
          <p:nvPr/>
        </p:nvSpPr>
        <p:spPr>
          <a:xfrm>
            <a:off x="3773520" y="6394320"/>
            <a:ext cx="165240" cy="168480"/>
          </a:xfrm>
          <a:prstGeom prst="octagon">
            <a:avLst>
              <a:gd name="adj" fmla="val 29287"/>
            </a:avLst>
          </a:prstGeom>
          <a:solidFill>
            <a:srgbClr val="00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96"/>
          <p:cNvSpPr/>
          <p:nvPr/>
        </p:nvSpPr>
        <p:spPr>
          <a:xfrm>
            <a:off x="3905280" y="6624720"/>
            <a:ext cx="165240" cy="168120"/>
          </a:xfrm>
          <a:prstGeom prst="octagon">
            <a:avLst>
              <a:gd name="adj" fmla="val 29287"/>
            </a:avLst>
          </a:prstGeom>
          <a:solidFill>
            <a:srgbClr val="00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97"/>
          <p:cNvSpPr/>
          <p:nvPr/>
        </p:nvSpPr>
        <p:spPr>
          <a:xfrm>
            <a:off x="1311120" y="5519880"/>
            <a:ext cx="165240" cy="168120"/>
          </a:xfrm>
          <a:prstGeom prst="octagon">
            <a:avLst>
              <a:gd name="adj" fmla="val 29287"/>
            </a:avLst>
          </a:prstGeom>
          <a:solidFill>
            <a:srgbClr val="00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98"/>
          <p:cNvSpPr/>
          <p:nvPr/>
        </p:nvSpPr>
        <p:spPr>
          <a:xfrm>
            <a:off x="1509840" y="5384880"/>
            <a:ext cx="164880" cy="168120"/>
          </a:xfrm>
          <a:prstGeom prst="octagon">
            <a:avLst>
              <a:gd name="adj" fmla="val 29287"/>
            </a:avLst>
          </a:prstGeom>
          <a:solidFill>
            <a:srgbClr val="00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99"/>
          <p:cNvSpPr/>
          <p:nvPr/>
        </p:nvSpPr>
        <p:spPr>
          <a:xfrm>
            <a:off x="1731960" y="5264280"/>
            <a:ext cx="165240" cy="168120"/>
          </a:xfrm>
          <a:prstGeom prst="octagon">
            <a:avLst>
              <a:gd name="adj" fmla="val 29287"/>
            </a:avLst>
          </a:prstGeom>
          <a:solidFill>
            <a:srgbClr val="00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00"/>
          <p:cNvSpPr/>
          <p:nvPr/>
        </p:nvSpPr>
        <p:spPr>
          <a:xfrm>
            <a:off x="5756040" y="5653080"/>
            <a:ext cx="27133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Monumentengegev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101"/>
          <p:cNvSpPr/>
          <p:nvPr/>
        </p:nvSpPr>
        <p:spPr>
          <a:xfrm>
            <a:off x="4586400" y="3473280"/>
            <a:ext cx="328680" cy="3366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02"/>
          <p:cNvSpPr/>
          <p:nvPr/>
        </p:nvSpPr>
        <p:spPr>
          <a:xfrm>
            <a:off x="3189240" y="6246720"/>
            <a:ext cx="328680" cy="3351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103"/>
          <p:cNvSpPr/>
          <p:nvPr/>
        </p:nvSpPr>
        <p:spPr>
          <a:xfrm>
            <a:off x="2776680" y="4397400"/>
            <a:ext cx="328320" cy="3366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04"/>
          <p:cNvSpPr/>
          <p:nvPr/>
        </p:nvSpPr>
        <p:spPr>
          <a:xfrm>
            <a:off x="5754240" y="6073920"/>
            <a:ext cx="201564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Horecagegev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05"/>
          <p:cNvSpPr/>
          <p:nvPr/>
        </p:nvSpPr>
        <p:spPr>
          <a:xfrm>
            <a:off x="2790720" y="3987720"/>
            <a:ext cx="163440" cy="1684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06"/>
          <p:cNvSpPr/>
          <p:nvPr/>
        </p:nvSpPr>
        <p:spPr>
          <a:xfrm>
            <a:off x="2987640" y="3919680"/>
            <a:ext cx="162000" cy="16812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07"/>
          <p:cNvSpPr/>
          <p:nvPr/>
        </p:nvSpPr>
        <p:spPr>
          <a:xfrm>
            <a:off x="3197160" y="3851280"/>
            <a:ext cx="165240" cy="16812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08"/>
          <p:cNvSpPr/>
          <p:nvPr/>
        </p:nvSpPr>
        <p:spPr>
          <a:xfrm>
            <a:off x="3409920" y="3784680"/>
            <a:ext cx="163440" cy="16812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09"/>
          <p:cNvSpPr/>
          <p:nvPr/>
        </p:nvSpPr>
        <p:spPr>
          <a:xfrm>
            <a:off x="3355920" y="4579920"/>
            <a:ext cx="165240" cy="16812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10"/>
          <p:cNvSpPr/>
          <p:nvPr/>
        </p:nvSpPr>
        <p:spPr>
          <a:xfrm>
            <a:off x="3552840" y="4511520"/>
            <a:ext cx="165240" cy="1684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11"/>
          <p:cNvSpPr/>
          <p:nvPr/>
        </p:nvSpPr>
        <p:spPr>
          <a:xfrm>
            <a:off x="3751200" y="4430880"/>
            <a:ext cx="165240" cy="16812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12"/>
          <p:cNvSpPr/>
          <p:nvPr/>
        </p:nvSpPr>
        <p:spPr>
          <a:xfrm>
            <a:off x="3235320" y="5400720"/>
            <a:ext cx="165240" cy="16812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13"/>
          <p:cNvSpPr/>
          <p:nvPr/>
        </p:nvSpPr>
        <p:spPr>
          <a:xfrm>
            <a:off x="3330720" y="5602320"/>
            <a:ext cx="164880" cy="16812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14"/>
          <p:cNvSpPr/>
          <p:nvPr/>
        </p:nvSpPr>
        <p:spPr>
          <a:xfrm>
            <a:off x="5771880" y="6492960"/>
            <a:ext cx="24055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Bewakingsgegev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15"/>
          <p:cNvSpPr/>
          <p:nvPr/>
        </p:nvSpPr>
        <p:spPr>
          <a:xfrm rot="16345200">
            <a:off x="3899520" y="3567240"/>
            <a:ext cx="608040" cy="1216080"/>
          </a:xfrm>
          <a:prstGeom prst="flowChartMerge">
            <a:avLst/>
          </a:prstGeom>
          <a:solidFill>
            <a:srgbClr val="cc99ff">
              <a:alpha val="5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116"/>
          <p:cNvSpPr/>
          <p:nvPr/>
        </p:nvSpPr>
        <p:spPr>
          <a:xfrm rot="6464400">
            <a:off x="2685600" y="3801960"/>
            <a:ext cx="504720" cy="987480"/>
          </a:xfrm>
          <a:prstGeom prst="flowChartMerge">
            <a:avLst/>
          </a:prstGeom>
          <a:solidFill>
            <a:srgbClr val="cc99ff">
              <a:alpha val="5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117"/>
          <p:cNvSpPr/>
          <p:nvPr/>
        </p:nvSpPr>
        <p:spPr>
          <a:xfrm rot="8374200">
            <a:off x="2763360" y="4895640"/>
            <a:ext cx="414360" cy="561960"/>
          </a:xfrm>
          <a:prstGeom prst="flowChartMerge">
            <a:avLst/>
          </a:prstGeom>
          <a:solidFill>
            <a:srgbClr val="cc99ff">
              <a:alpha val="5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18"/>
          <p:cNvSpPr/>
          <p:nvPr/>
        </p:nvSpPr>
        <p:spPr>
          <a:xfrm>
            <a:off x="5735880" y="6913440"/>
            <a:ext cx="129456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Enzovo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27"/>
          <p:cNvSpPr/>
          <p:nvPr/>
        </p:nvSpPr>
        <p:spPr>
          <a:xfrm>
            <a:off x="5775480" y="1924200"/>
            <a:ext cx="196524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Kadastrale ka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5" descr=""/>
          <p:cNvPicPr/>
          <p:nvPr/>
        </p:nvPicPr>
        <p:blipFill>
          <a:blip r:embed="rId2"/>
          <a:stretch/>
        </p:blipFill>
        <p:spPr>
          <a:xfrm>
            <a:off x="8831160" y="0"/>
            <a:ext cx="185760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500"/>
                            </p:stCondLst>
                            <p:childTnLst>
                              <p:par>
                                <p:cTn id="3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500"/>
                            </p:stCondLst>
                            <p:childTnLst>
                              <p:par>
                                <p:cTn id="4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0"/>
                            </p:stCondLst>
                            <p:childTnLst>
                              <p:par>
                                <p:cTn id="51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500"/>
                            </p:stCondLst>
                            <p:childTnLst>
                              <p:par>
                                <p:cTn id="56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6000"/>
                            </p:stCondLst>
                            <p:childTnLst>
                              <p:par>
                                <p:cTn id="61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500"/>
                            </p:stCondLst>
                            <p:childTnLst>
                              <p:par>
                                <p:cTn id="6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7000"/>
                            </p:stCondLst>
                            <p:childTnLst>
                              <p:par>
                                <p:cTn id="70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7500"/>
                            </p:stCondLst>
                            <p:childTnLst>
                              <p:par>
                                <p:cTn id="75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8000"/>
                            </p:stCondLst>
                            <p:childTnLst>
                              <p:par>
                                <p:cTn id="80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8500"/>
                            </p:stCondLst>
                            <p:childTnLst>
                              <p:par>
                                <p:cTn id="8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9000"/>
                            </p:stCondLst>
                            <p:childTnLst>
                              <p:par>
                                <p:cTn id="89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9500"/>
                            </p:stCondLst>
                            <p:childTnLst>
                              <p:par>
                                <p:cTn id="94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0"/>
                            </p:stCondLst>
                            <p:childTnLst>
                              <p:par>
                                <p:cTn id="9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3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8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1500"/>
                            </p:stCondLst>
                            <p:childTnLst>
                              <p:par>
                                <p:cTn id="113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8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3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3500"/>
                            </p:stCondLst>
                            <p:childTnLst>
                              <p:par>
                                <p:cTn id="132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39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4500"/>
                            </p:stCondLst>
                            <p:childTnLst>
                              <p:par>
                                <p:cTn id="146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3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5500"/>
                            </p:stCondLst>
                            <p:childTnLst>
                              <p:par>
                                <p:cTn id="160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6000"/>
                            </p:stCondLst>
                            <p:childTnLst>
                              <p:par>
                                <p:cTn id="167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6500"/>
                            </p:stCondLst>
                            <p:childTnLst>
                              <p:par>
                                <p:cTn id="174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7000"/>
                            </p:stCondLst>
                            <p:childTnLst>
                              <p:par>
                                <p:cTn id="181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7500"/>
                            </p:stCondLst>
                            <p:childTnLst>
                              <p:par>
                                <p:cTn id="188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8000"/>
                            </p:stCondLst>
                            <p:childTnLst>
                              <p:par>
                                <p:cTn id="195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8500"/>
                            </p:stCondLst>
                            <p:childTnLst>
                              <p:par>
                                <p:cTn id="202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9000"/>
                            </p:stCondLst>
                            <p:childTnLst>
                              <p:par>
                                <p:cTn id="209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9500"/>
                            </p:stCondLst>
                            <p:childTnLst>
                              <p:par>
                                <p:cTn id="216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0"/>
                            </p:stCondLst>
                            <p:childTnLst>
                              <p:par>
                                <p:cTn id="223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500"/>
                            </p:stCondLst>
                            <p:childTnLst>
                              <p:par>
                                <p:cTn id="23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3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1000"/>
                            </p:stCondLst>
                            <p:childTnLst>
                              <p:par>
                                <p:cTn id="234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1500"/>
                            </p:stCondLst>
                            <p:childTnLst>
                              <p:par>
                                <p:cTn id="241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2000"/>
                            </p:stCondLst>
                            <p:childTnLst>
                              <p:par>
                                <p:cTn id="248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2500"/>
                            </p:stCondLst>
                            <p:childTnLst>
                              <p:par>
                                <p:cTn id="255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3000"/>
                            </p:stCondLst>
                            <p:childTnLst>
                              <p:par>
                                <p:cTn id="262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3500"/>
                            </p:stCondLst>
                            <p:childTnLst>
                              <p:par>
                                <p:cTn id="269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4000"/>
                            </p:stCondLst>
                            <p:childTnLst>
                              <p:par>
                                <p:cTn id="276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4500"/>
                            </p:stCondLst>
                            <p:childTnLst>
                              <p:par>
                                <p:cTn id="283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5000"/>
                            </p:stCondLst>
                            <p:childTnLst>
                              <p:par>
                                <p:cTn id="290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5500"/>
                            </p:stCondLst>
                            <p:childTnLst>
                              <p:par>
                                <p:cTn id="297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6000"/>
                            </p:stCondLst>
                            <p:childTnLst>
                              <p:par>
                                <p:cTn id="30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6500"/>
                            </p:stCondLst>
                            <p:childTnLst>
                              <p:par>
                                <p:cTn id="308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7000"/>
                            </p:stCondLst>
                            <p:childTnLst>
                              <p:par>
                                <p:cTn id="315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7500"/>
                            </p:stCondLst>
                            <p:childTnLst>
                              <p:par>
                                <p:cTn id="322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8000"/>
                            </p:stCondLst>
                            <p:childTnLst>
                              <p:par>
                                <p:cTn id="32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28500"/>
                            </p:stCondLst>
                            <p:childTnLst>
                              <p:par>
                                <p:cTn id="333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29000"/>
                            </p:stCondLst>
                            <p:childTnLst>
                              <p:par>
                                <p:cTn id="340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9500"/>
                            </p:stCondLst>
                            <p:childTnLst>
                              <p:par>
                                <p:cTn id="347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30000"/>
                            </p:stCondLst>
                            <p:childTnLst>
                              <p:par>
                                <p:cTn id="354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30500"/>
                            </p:stCondLst>
                            <p:childTnLst>
                              <p:par>
                                <p:cTn id="361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31000"/>
                            </p:stCondLst>
                            <p:childTnLst>
                              <p:par>
                                <p:cTn id="368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31500"/>
                            </p:stCondLst>
                            <p:childTnLst>
                              <p:par>
                                <p:cTn id="375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32000"/>
                            </p:stCondLst>
                            <p:childTnLst>
                              <p:par>
                                <p:cTn id="382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32500"/>
                            </p:stCondLst>
                            <p:childTnLst>
                              <p:par>
                                <p:cTn id="389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33000"/>
                            </p:stCondLst>
                            <p:childTnLst>
                              <p:par>
                                <p:cTn id="39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33500"/>
                            </p:stCondLst>
                            <p:childTnLst>
                              <p:par>
                                <p:cTn id="40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34000"/>
                            </p:stCondLst>
                            <p:childTnLst>
                              <p:par>
                                <p:cTn id="40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34500"/>
                            </p:stCondLst>
                            <p:childTnLst>
                              <p:par>
                                <p:cTn id="41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35000"/>
                            </p:stCondLst>
                            <p:childTnLst>
                              <p:par>
                                <p:cTn id="41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1"/>
          <p:cNvSpPr/>
          <p:nvPr/>
        </p:nvSpPr>
        <p:spPr>
          <a:xfrm>
            <a:off x="2486160" y="1079640"/>
            <a:ext cx="776268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3280" bIns="53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NEN3610-fami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1663560" y="1995480"/>
            <a:ext cx="9025200" cy="55674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5" descr=""/>
          <p:cNvPicPr/>
          <p:nvPr/>
        </p:nvPicPr>
        <p:blipFill>
          <a:blip r:embed="rId2"/>
          <a:stretch/>
        </p:blipFill>
        <p:spPr>
          <a:xfrm>
            <a:off x="8831160" y="0"/>
            <a:ext cx="185760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1"/>
          <p:cNvSpPr/>
          <p:nvPr/>
        </p:nvSpPr>
        <p:spPr>
          <a:xfrm>
            <a:off x="2486160" y="1079640"/>
            <a:ext cx="776268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3280" bIns="53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Harmonisatie StUF en NEN3610 </a:t>
            </a:r>
            <a:br>
              <a:rPr sz="3200"/>
            </a:b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nut en noodzaa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914400" y="2424240"/>
          <a:ext cx="9104400" cy="4873320"/>
        </p:xfrm>
        <a:graphic>
          <a:graphicData uri="http://schemas.openxmlformats.org/drawingml/2006/table">
            <a:tbl>
              <a:tblPr/>
              <a:tblGrid>
                <a:gridCol w="4554360"/>
                <a:gridCol w="4550040"/>
              </a:tblGrid>
              <a:tr h="438120">
                <a:tc>
                  <a:txBody>
                    <a:bodyPr lIns="106920" rIns="106920" tIns="19440" bIns="504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nl-NL" sz="22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OVERHEI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6920" marR="106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106920" rIns="106920" tIns="19440" bIns="504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nl-NL" sz="22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OMGEV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6920" marR="106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1611360">
                <a:tc>
                  <a:txBody>
                    <a:bodyPr lIns="106920" rIns="106920" tIns="17640" bIns="504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nl-NL" sz="20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Samengestelde dienstverlening aan burgers en bedrijven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nl-NL" sz="15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WAB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6920" marR="106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106920" rIns="106920" tIns="17640" bIns="504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nl-NL" sz="20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Mensen verwachten h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nl-NL" sz="15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Ze zijn inmiddels gewend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nl-NL" sz="15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aan grafische en multimediale presentatievormen (bijv. Googlemaps, Funda, Jaap, Marktplaats, TomTom etc.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6920" marR="106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242720">
                <a:tc>
                  <a:txBody>
                    <a:bodyPr lIns="106920" rIns="106920" tIns="17640" bIns="504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nl-NL" sz="20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Meer interoperabilite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nl-NL" sz="15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Verzoek van Forum en Colleg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nl-NL" sz="15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Standaardisati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6920" marR="106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106920" rIns="106920" tIns="17640" bIns="504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nl-NL" sz="20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Softwareleveranciers willen standaard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nl-NL" sz="15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GIS/GEO systemen en gemeentelijke backoffice systemen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6920" marR="106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581120">
                <a:tc>
                  <a:txBody>
                    <a:bodyPr lIns="106920" rIns="106920" tIns="17640" bIns="504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nl-NL" sz="20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Stelsel van basisregistra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nl-NL" sz="15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Van individuele basisregistrati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nl-NL" sz="15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naar een stelsel met dezelfde standaarden en mogelijkheden voor gebruik van generieke en herbruikbare oplossinge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6920" marR="106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106920" rIns="106920" tIns="17640" bIns="504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nl-NL" sz="20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Met de huidige techniek kan h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nl-NL" sz="15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Met moderne ICT is de scheiding tussen grafische, geo en adminstratieve en andersoortige informatie overbodig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6920" marR="106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pic>
        <p:nvPicPr>
          <p:cNvPr id="261" name="Picture 5" descr=""/>
          <p:cNvPicPr/>
          <p:nvPr/>
        </p:nvPicPr>
        <p:blipFill>
          <a:blip r:embed="rId1"/>
          <a:stretch/>
        </p:blipFill>
        <p:spPr>
          <a:xfrm>
            <a:off x="8831160" y="0"/>
            <a:ext cx="1857600" cy="89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1"/>
          <p:cNvSpPr/>
          <p:nvPr/>
        </p:nvSpPr>
        <p:spPr>
          <a:xfrm>
            <a:off x="0" y="866880"/>
            <a:ext cx="10688760" cy="669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2"/>
          <p:cNvSpPr/>
          <p:nvPr/>
        </p:nvSpPr>
        <p:spPr>
          <a:xfrm>
            <a:off x="2486160" y="0"/>
            <a:ext cx="985968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3280" bIns="53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Positionering stel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942840" y="2509920"/>
            <a:ext cx="9282240" cy="151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5" descr=""/>
          <p:cNvPicPr/>
          <p:nvPr/>
        </p:nvPicPr>
        <p:blipFill>
          <a:blip r:embed="rId1"/>
          <a:stretch/>
        </p:blipFill>
        <p:spPr>
          <a:xfrm>
            <a:off x="417600" y="1260360"/>
            <a:ext cx="8555040" cy="630252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6"/>
          <p:cNvSpPr/>
          <p:nvPr/>
        </p:nvSpPr>
        <p:spPr>
          <a:xfrm>
            <a:off x="8034480" y="3194280"/>
            <a:ext cx="1903320" cy="605880"/>
          </a:xfrm>
          <a:prstGeom prst="rect">
            <a:avLst/>
          </a:prstGeom>
          <a:solidFill>
            <a:srgbClr val="d9d9d9"/>
          </a:solidFill>
          <a:ln w="324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9160" rIns="119160" tIns="59400" bIns="59400" anchor="ctr">
            <a:spAutoFit/>
          </a:bodyPr>
          <a:p>
            <a:pPr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MGeo (NEN36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7"/>
          <p:cNvSpPr/>
          <p:nvPr/>
        </p:nvSpPr>
        <p:spPr>
          <a:xfrm>
            <a:off x="8034480" y="4297320"/>
            <a:ext cx="1903320" cy="605880"/>
          </a:xfrm>
          <a:prstGeom prst="rect">
            <a:avLst/>
          </a:prstGeom>
          <a:solidFill>
            <a:srgbClr val="d9d9d9"/>
          </a:solidFill>
          <a:ln w="324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9160" rIns="119160" tIns="59400" bIns="59400" anchor="ctr">
            <a:spAutoFit/>
          </a:bodyPr>
          <a:p>
            <a:pPr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MBOD (NEN36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8"/>
          <p:cNvSpPr/>
          <p:nvPr/>
        </p:nvSpPr>
        <p:spPr>
          <a:xfrm>
            <a:off x="8034480" y="1698120"/>
            <a:ext cx="1903320" cy="605880"/>
          </a:xfrm>
          <a:prstGeom prst="rect">
            <a:avLst/>
          </a:prstGeom>
          <a:solidFill>
            <a:srgbClr val="d9d9d9"/>
          </a:solidFill>
          <a:ln w="324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9160" rIns="119160" tIns="59400" bIns="59400" anchor="ctr">
            <a:spAutoFit/>
          </a:bodyPr>
          <a:p>
            <a:pPr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OP10NL (NEN36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9"/>
          <p:cNvSpPr/>
          <p:nvPr/>
        </p:nvSpPr>
        <p:spPr>
          <a:xfrm>
            <a:off x="4129200" y="2026080"/>
            <a:ext cx="1951920" cy="362520"/>
          </a:xfrm>
          <a:prstGeom prst="rect">
            <a:avLst/>
          </a:prstGeom>
          <a:solidFill>
            <a:srgbClr val="d9d9d9"/>
          </a:solidFill>
          <a:ln w="324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59400" bIns="59400" anchor="ctr">
            <a:spAutoFit/>
          </a:bodyPr>
          <a:p>
            <a:pPr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MKAD (NEN36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0"/>
          <p:cNvSpPr/>
          <p:nvPr/>
        </p:nvSpPr>
        <p:spPr>
          <a:xfrm>
            <a:off x="5224320" y="5143680"/>
            <a:ext cx="1721160" cy="605880"/>
          </a:xfrm>
          <a:prstGeom prst="rect">
            <a:avLst/>
          </a:prstGeom>
          <a:solidFill>
            <a:srgbClr val="d9d9d9"/>
          </a:solidFill>
          <a:ln w="324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9160" rIns="119160" tIns="59400" bIns="59400" anchor="ctr">
            <a:spAutoFit/>
          </a:bodyPr>
          <a:p>
            <a:pPr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tUF LV-BA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(NEN36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1"/>
          <p:cNvSpPr/>
          <p:nvPr/>
        </p:nvSpPr>
        <p:spPr>
          <a:xfrm>
            <a:off x="3129120" y="3974760"/>
            <a:ext cx="1473120" cy="362520"/>
          </a:xfrm>
          <a:prstGeom prst="rect">
            <a:avLst/>
          </a:prstGeom>
          <a:solidFill>
            <a:srgbClr val="d9d9d9"/>
          </a:solidFill>
          <a:ln w="324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9160" rIns="119160" tIns="59400" bIns="59400" anchor="ctr">
            <a:spAutoFit/>
          </a:bodyPr>
          <a:p>
            <a:pPr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tUF-WO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0"/>
          <p:cNvSpPr/>
          <p:nvPr/>
        </p:nvSpPr>
        <p:spPr>
          <a:xfrm>
            <a:off x="750960" y="5349960"/>
            <a:ext cx="1722240" cy="605880"/>
          </a:xfrm>
          <a:prstGeom prst="rect">
            <a:avLst/>
          </a:prstGeom>
          <a:solidFill>
            <a:srgbClr val="d9d9d9"/>
          </a:solidFill>
          <a:ln w="324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9160" rIns="119160" tIns="59400" bIns="59400" anchor="ctr">
            <a:spAutoFit/>
          </a:bodyPr>
          <a:p>
            <a:pPr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tU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9760"/>
                <a:tab algn="l" pos="1022400"/>
                <a:tab algn="l" pos="1535040"/>
                <a:tab algn="l" pos="2046240"/>
                <a:tab algn="l" pos="2558880"/>
                <a:tab algn="l" pos="3071880"/>
                <a:tab algn="l" pos="3584520"/>
                <a:tab algn="l" pos="4095720"/>
                <a:tab algn="l" pos="4608360"/>
                <a:tab algn="l" pos="5121360"/>
                <a:tab algn="l" pos="5634000"/>
                <a:tab algn="l" pos="6145200"/>
                <a:tab algn="l" pos="6657840"/>
                <a:tab algn="l" pos="7170840"/>
                <a:tab algn="l" pos="7683480"/>
                <a:tab algn="l" pos="8196120"/>
                <a:tab algn="l" pos="8707320"/>
                <a:tab algn="l" pos="9220320"/>
                <a:tab algn="l" pos="9732960"/>
                <a:tab algn="l" pos="102456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n onderzo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5" descr=""/>
          <p:cNvPicPr/>
          <p:nvPr/>
        </p:nvPicPr>
        <p:blipFill>
          <a:blip r:embed="rId2"/>
          <a:stretch/>
        </p:blipFill>
        <p:spPr>
          <a:xfrm>
            <a:off x="8831160" y="0"/>
            <a:ext cx="1857600" cy="89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679480" y="1117080"/>
            <a:ext cx="7777080" cy="8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Hoe kan de OOV gegevens uit de basisregistraties ontsluiten? 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5" name="Picture 4" descr="Image1"/>
          <p:cNvPicPr/>
          <p:nvPr/>
        </p:nvPicPr>
        <p:blipFill>
          <a:blip r:embed="rId1"/>
          <a:stretch/>
        </p:blipFill>
        <p:spPr>
          <a:xfrm>
            <a:off x="3184560" y="2197080"/>
            <a:ext cx="6769080" cy="50832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5" descr=""/>
          <p:cNvPicPr/>
          <p:nvPr/>
        </p:nvPicPr>
        <p:blipFill>
          <a:blip r:embed="rId2"/>
          <a:stretch/>
        </p:blipFill>
        <p:spPr>
          <a:xfrm>
            <a:off x="8831160" y="0"/>
            <a:ext cx="185760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7T13:20:23Z</dcterms:created>
  <dc:creator>mreuvers</dc:creator>
  <dc:description/>
  <dc:language>en-US</dc:language>
  <cp:lastModifiedBy>Peter</cp:lastModifiedBy>
  <dcterms:modified xsi:type="dcterms:W3CDTF">2010-02-17T07:11:15Z</dcterms:modified>
  <cp:revision>14</cp:revision>
  <dc:subject/>
  <dc:title>Harmonisatie gegevens en berichtstandaarden StUF-RSGB en NEN3610 </dc:title>
</cp:coreProperties>
</file>